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1D5-4D79-49F4-93EB-C4F8AB0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000-205F-4EB0-A0F1-70DB3332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D75-5858-402D-8C22-3FBC6127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FF8-6D4A-4869-AC2C-A53B8EDD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742-D1A5-4BB4-8B5B-D18ECAFE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062-F82F-4ADC-87FF-BD79DF97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B14-66AA-4F1C-B948-F3E72B9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75A-42B5-4560-9A1F-D51914E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F96-B113-4F48-95D4-71E82DB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DFE-7F26-497C-B322-451BFB2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35D-B008-4D84-94E5-45FE6C9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E99-A5A7-4018-95A4-CF02811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DC6A-5FE7-4AD9-9F21-C0BAB5F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2E9-866A-4447-B128-6E923B7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994-BC93-4A7B-A6F7-B7FE2E54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25DA-8318-47EC-8423-CF2731BE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EDD-DA65-462A-8942-BF10DACF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F34-7DF0-4749-8E7B-21F7E4F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BB8-E53C-435C-A490-8ED46CF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C41-7DC3-4E26-AC4F-6394DA39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AD0-6F4C-40B6-87BE-FDE33755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6FF-79F9-4E65-9592-57C79DA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4C3-3E31-49E6-9E5B-D1E8417D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C2B-1D9A-4F01-A7A3-DD4FA64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427D-70A2-4360-B1B3-82DD019D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113-DBA7-46E4-8E71-238AC49A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1557360"/>
            <a:ext cx="6635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Tuneles y VP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35280" y="3357360"/>
            <a:ext cx="58608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VPN usando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852640"/>
            <a:ext cx="6226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propietario Mikro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 frames de ethernet dentro de paquetes de IP protocolo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EoIP soporta todas las funcionalidades de cualquier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 EoIP puede correr sobre cualquier conexión que soport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 máximo de túneles de EoIP es de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se de túnel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61636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oIP y “Bridg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 Inter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oIP puede ser “bridgeada” con cualquier otra interfase EoIP o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o principal de túneles EoIP es para transparentemente hacer bridge de rede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EoIP no provee encriptación de datos, por tal manera debe correr sobre un túnel encriptado, ejemplo PPTP, L2TP o PPPoE, si es requerid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túnel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PPP debe esta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con “/system package pr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a la misma versión del paquete ppp-2.x.x.npk y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configuraciones de túneles PPP son similares e involucran un se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dores de Acceso (Server PPTP o PPP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 PPTP o 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ntrador de Acces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es usado para permitir a usuarios remotos establecer conexiones de túneles encriptados al ruteador y recibir información de configuración del h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, dirección de red, puerta de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ones del servidor de nombr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up incluye configu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IP DNS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ool de IP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ile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ce del Server 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PP (logins y pass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laneando el direccionamiento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PPTP son típicamente conexiones punto a punto, las cuales usan direcciones de 32 bits para la dirección IP. La dirección de red es la dirección en el peer rem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desea , el cliente puede ser asignado con una IP real (rut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Server=pptp-in1, address=10.1.0.1/32, network=10.2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=pptp-out1, address=10.2.0.1/32, network=10.1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ool de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ol de IP Pool es usado para especificar un rango de direcciones IP las cuales seran entregadas a los clientes de PPTP, PPPoE, DHC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pool add name ppp-hosts address=10.2.0.1-10.2.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s la facilidad de asignar direcciones IP especificas a ciertos clientes si tu lo especificas bajo /ppp secret, o en un RADIUS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a el profile de default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ernativamente, se puede hacer un profile especial para conexiones entrantes d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add name=pptp use-encryption=yes require-encryption=yes, local-address=10.1.0.1 remote-address=pptp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ogins y password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registro ppp secret para usuarios que requieren entrar vía pp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ose password=jos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uan password=hola remote-address=10.2.0.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 ‘jose’ ingresa via pptp una dirección le será asignada ,desde el pool cr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‘juan’ ingresa via pptp , le será asignada la dirección 10.2.0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ilite el server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set enabled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un profile diferente , si es que lo ha cre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as conexiones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eneficios de VP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 seguras entre redes privadas corporativas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eas ren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laces inalamb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corporativos (correo, servidores corporativos, impresoras) pueden ser accedidas de manera segura por usuarios que tengan los permisos necesarios, desde el exterior (viajando, en cas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client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e el profile de default de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un client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client add connect-to=192.168.1.1 user=jose password=jos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ruteo y firewall, porque el puerto 1723 de TCP es usado para hacer las conexiones entre cliente y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el protocolo 47 (GRE) pasa a travé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las direcciones IP están especificadas para el lado server y cliente en los profiles de PPP o en ppp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os lo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Server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server add service-name=office_w interface=eth-local authentication=mschap2 one-session-per-host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a las conexiones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una interfase cliente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add interface=ether1 user=joe password=joe3 service-name=office_w allow=msch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conecta, la interfase pppoe esta en Estado Activo (Running) y el comando monitor nos muestra el status de la interf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monitor pppoe-ou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seguro que el nombre del servicio esta especificado correctamente y concuerda con el d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lo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lace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989000"/>
            <a:ext cx="165564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221000"/>
            <a:ext cx="3025800" cy="18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653000"/>
            <a:ext cx="201600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1951200"/>
            <a:ext cx="1825560" cy="161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640" y="1557360"/>
            <a:ext cx="2643120" cy="2070000"/>
          </a:xfrm>
          <a:custGeom>
            <a:avLst/>
            <a:gdLst/>
            <a:ahLst/>
            <a:rect l="l" t="t" r="r" b="b"/>
            <a:pathLst>
              <a:path w="1665" h="1304">
                <a:moveTo>
                  <a:pt x="316" y="455"/>
                </a:moveTo>
                <a:cubicBezTo>
                  <a:pt x="224" y="486"/>
                  <a:pt x="125" y="472"/>
                  <a:pt x="33" y="506"/>
                </a:cubicBezTo>
                <a:cubicBezTo>
                  <a:pt x="12" y="569"/>
                  <a:pt x="1" y="621"/>
                  <a:pt x="33" y="687"/>
                </a:cubicBezTo>
                <a:cubicBezTo>
                  <a:pt x="38" y="698"/>
                  <a:pt x="48" y="707"/>
                  <a:pt x="53" y="718"/>
                </a:cubicBezTo>
                <a:cubicBezTo>
                  <a:pt x="61" y="737"/>
                  <a:pt x="73" y="778"/>
                  <a:pt x="73" y="778"/>
                </a:cubicBezTo>
                <a:cubicBezTo>
                  <a:pt x="54" y="838"/>
                  <a:pt x="68" y="799"/>
                  <a:pt x="23" y="890"/>
                </a:cubicBezTo>
                <a:cubicBezTo>
                  <a:pt x="14" y="909"/>
                  <a:pt x="3" y="950"/>
                  <a:pt x="3" y="950"/>
                </a:cubicBezTo>
                <a:cubicBezTo>
                  <a:pt x="26" y="1043"/>
                  <a:pt x="0" y="1016"/>
                  <a:pt x="53" y="1051"/>
                </a:cubicBezTo>
                <a:cubicBezTo>
                  <a:pt x="119" y="1142"/>
                  <a:pt x="230" y="1170"/>
                  <a:pt x="336" y="1183"/>
                </a:cubicBezTo>
                <a:cubicBezTo>
                  <a:pt x="407" y="1174"/>
                  <a:pt x="434" y="1177"/>
                  <a:pt x="488" y="1142"/>
                </a:cubicBezTo>
                <a:cubicBezTo>
                  <a:pt x="521" y="1093"/>
                  <a:pt x="561" y="1053"/>
                  <a:pt x="609" y="1021"/>
                </a:cubicBezTo>
                <a:cubicBezTo>
                  <a:pt x="660" y="1038"/>
                  <a:pt x="710" y="1061"/>
                  <a:pt x="760" y="1082"/>
                </a:cubicBezTo>
                <a:cubicBezTo>
                  <a:pt x="790" y="1111"/>
                  <a:pt x="811" y="1129"/>
                  <a:pt x="851" y="1142"/>
                </a:cubicBezTo>
                <a:cubicBezTo>
                  <a:pt x="888" y="1179"/>
                  <a:pt x="968" y="1274"/>
                  <a:pt x="1013" y="1304"/>
                </a:cubicBezTo>
                <a:cubicBezTo>
                  <a:pt x="1135" y="1284"/>
                  <a:pt x="1272" y="1265"/>
                  <a:pt x="1336" y="1142"/>
                </a:cubicBezTo>
                <a:cubicBezTo>
                  <a:pt x="1356" y="1103"/>
                  <a:pt x="1360" y="1053"/>
                  <a:pt x="1367" y="1011"/>
                </a:cubicBezTo>
                <a:cubicBezTo>
                  <a:pt x="1370" y="964"/>
                  <a:pt x="1369" y="916"/>
                  <a:pt x="1377" y="869"/>
                </a:cubicBezTo>
                <a:cubicBezTo>
                  <a:pt x="1380" y="854"/>
                  <a:pt x="1418" y="816"/>
                  <a:pt x="1427" y="809"/>
                </a:cubicBezTo>
                <a:cubicBezTo>
                  <a:pt x="1489" y="761"/>
                  <a:pt x="1561" y="742"/>
                  <a:pt x="1630" y="708"/>
                </a:cubicBezTo>
                <a:cubicBezTo>
                  <a:pt x="1637" y="686"/>
                  <a:pt x="1656" y="669"/>
                  <a:pt x="1660" y="647"/>
                </a:cubicBezTo>
                <a:cubicBezTo>
                  <a:pt x="1665" y="620"/>
                  <a:pt x="1623" y="560"/>
                  <a:pt x="1609" y="536"/>
                </a:cubicBezTo>
                <a:cubicBezTo>
                  <a:pt x="1570" y="469"/>
                  <a:pt x="1533" y="409"/>
                  <a:pt x="1478" y="354"/>
                </a:cubicBezTo>
                <a:cubicBezTo>
                  <a:pt x="1475" y="344"/>
                  <a:pt x="1469" y="335"/>
                  <a:pt x="1468" y="324"/>
                </a:cubicBezTo>
                <a:cubicBezTo>
                  <a:pt x="1462" y="250"/>
                  <a:pt x="1469" y="175"/>
                  <a:pt x="1458" y="101"/>
                </a:cubicBezTo>
                <a:cubicBezTo>
                  <a:pt x="1452" y="65"/>
                  <a:pt x="1423" y="58"/>
                  <a:pt x="1397" y="51"/>
                </a:cubicBezTo>
                <a:cubicBezTo>
                  <a:pt x="1339" y="35"/>
                  <a:pt x="1283" y="14"/>
                  <a:pt x="1225" y="0"/>
                </a:cubicBezTo>
                <a:cubicBezTo>
                  <a:pt x="1154" y="3"/>
                  <a:pt x="1083" y="1"/>
                  <a:pt x="1013" y="10"/>
                </a:cubicBezTo>
                <a:cubicBezTo>
                  <a:pt x="1003" y="11"/>
                  <a:pt x="1001" y="26"/>
                  <a:pt x="993" y="31"/>
                </a:cubicBezTo>
                <a:cubicBezTo>
                  <a:pt x="984" y="37"/>
                  <a:pt x="973" y="38"/>
                  <a:pt x="963" y="41"/>
                </a:cubicBezTo>
                <a:cubicBezTo>
                  <a:pt x="947" y="56"/>
                  <a:pt x="925" y="64"/>
                  <a:pt x="912" y="81"/>
                </a:cubicBezTo>
                <a:cubicBezTo>
                  <a:pt x="905" y="89"/>
                  <a:pt x="907" y="102"/>
                  <a:pt x="902" y="111"/>
                </a:cubicBezTo>
                <a:cubicBezTo>
                  <a:pt x="891" y="130"/>
                  <a:pt x="868" y="141"/>
                  <a:pt x="851" y="152"/>
                </a:cubicBezTo>
                <a:cubicBezTo>
                  <a:pt x="824" y="192"/>
                  <a:pt x="806" y="191"/>
                  <a:pt x="760" y="202"/>
                </a:cubicBezTo>
                <a:cubicBezTo>
                  <a:pt x="744" y="200"/>
                  <a:pt x="635" y="190"/>
                  <a:pt x="609" y="182"/>
                </a:cubicBezTo>
                <a:cubicBezTo>
                  <a:pt x="594" y="178"/>
                  <a:pt x="582" y="167"/>
                  <a:pt x="568" y="162"/>
                </a:cubicBezTo>
                <a:cubicBezTo>
                  <a:pt x="552" y="157"/>
                  <a:pt x="534" y="156"/>
                  <a:pt x="518" y="152"/>
                </a:cubicBezTo>
                <a:cubicBezTo>
                  <a:pt x="494" y="146"/>
                  <a:pt x="471" y="139"/>
                  <a:pt x="447" y="132"/>
                </a:cubicBezTo>
                <a:cubicBezTo>
                  <a:pt x="427" y="126"/>
                  <a:pt x="387" y="111"/>
                  <a:pt x="387" y="111"/>
                </a:cubicBezTo>
                <a:cubicBezTo>
                  <a:pt x="353" y="115"/>
                  <a:pt x="318" y="112"/>
                  <a:pt x="286" y="122"/>
                </a:cubicBezTo>
                <a:cubicBezTo>
                  <a:pt x="263" y="129"/>
                  <a:pt x="225" y="162"/>
                  <a:pt x="225" y="162"/>
                </a:cubicBezTo>
                <a:cubicBezTo>
                  <a:pt x="208" y="212"/>
                  <a:pt x="180" y="223"/>
                  <a:pt x="205" y="283"/>
                </a:cubicBezTo>
                <a:cubicBezTo>
                  <a:pt x="214" y="305"/>
                  <a:pt x="237" y="321"/>
                  <a:pt x="245" y="344"/>
                </a:cubicBezTo>
                <a:cubicBezTo>
                  <a:pt x="252" y="364"/>
                  <a:pt x="265" y="404"/>
                  <a:pt x="265" y="404"/>
                </a:cubicBezTo>
                <a:cubicBezTo>
                  <a:pt x="255" y="414"/>
                  <a:pt x="227" y="441"/>
                  <a:pt x="225" y="455"/>
                </a:cubicBezTo>
                <a:cubicBezTo>
                  <a:pt x="223" y="465"/>
                  <a:pt x="235" y="485"/>
                  <a:pt x="235" y="48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2492280"/>
            <a:ext cx="200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23" name=""/>
          <p:cNvCxnSpPr>
            <a:stCxn id="218" idx="7"/>
            <a:endCxn id="221" idx="0"/>
          </p:cNvCxnSpPr>
          <p:nvPr/>
        </p:nvCxnSpPr>
        <p:spPr>
          <a:xfrm flipV="1">
            <a:off x="3338280" y="3434760"/>
            <a:ext cx="183240" cy="1060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5" idx="3"/>
            <a:endCxn id="219" idx="2"/>
          </p:cNvCxnSpPr>
          <p:nvPr/>
        </p:nvCxnSpPr>
        <p:spPr>
          <a:xfrm>
            <a:off x="3995640" y="4700160"/>
            <a:ext cx="115344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7" idx="6"/>
            <a:endCxn id="221" idx="1"/>
          </p:cNvCxnSpPr>
          <p:nvPr/>
        </p:nvCxnSpPr>
        <p:spPr>
          <a:xfrm>
            <a:off x="2050920" y="2601720"/>
            <a:ext cx="105336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0" idx="2"/>
            <a:endCxn id="221" idx="2"/>
          </p:cNvCxnSpPr>
          <p:nvPr/>
        </p:nvCxnSpPr>
        <p:spPr>
          <a:xfrm flipH="1" flipV="1">
            <a:off x="5574600" y="2680920"/>
            <a:ext cx="1494360" cy="954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2916360" y="4437000"/>
            <a:ext cx="1079280" cy="52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teador Rout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15772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49228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781360"/>
            <a:ext cx="1019160" cy="1584360"/>
          </a:xfrm>
          <a:custGeom>
            <a:avLst/>
            <a:gdLst/>
            <a:ahLst/>
            <a:rect l="l" t="t" r="r" b="b"/>
            <a:pathLst>
              <a:path w="642" h="998">
                <a:moveTo>
                  <a:pt x="0" y="0"/>
                </a:moveTo>
                <a:cubicBezTo>
                  <a:pt x="223" y="30"/>
                  <a:pt x="446" y="61"/>
                  <a:pt x="544" y="227"/>
                </a:cubicBezTo>
                <a:cubicBezTo>
                  <a:pt x="642" y="393"/>
                  <a:pt x="582" y="862"/>
                  <a:pt x="590" y="998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881600"/>
            <a:ext cx="1150920" cy="419040"/>
          </a:xfrm>
          <a:custGeom>
            <a:avLst/>
            <a:gdLst/>
            <a:ahLst/>
            <a:rect l="l" t="t" r="r" b="b"/>
            <a:pathLst>
              <a:path w="725" h="264">
                <a:moveTo>
                  <a:pt x="0" y="38"/>
                </a:moveTo>
                <a:cubicBezTo>
                  <a:pt x="121" y="19"/>
                  <a:pt x="242" y="0"/>
                  <a:pt x="363" y="38"/>
                </a:cubicBezTo>
                <a:cubicBezTo>
                  <a:pt x="484" y="76"/>
                  <a:pt x="604" y="170"/>
                  <a:pt x="725" y="264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2938320"/>
            <a:ext cx="2663640" cy="1498680"/>
          </a:xfrm>
          <a:custGeom>
            <a:avLst/>
            <a:gdLst/>
            <a:ahLst/>
            <a:rect l="l" t="t" r="r" b="b"/>
            <a:pathLst>
              <a:path w="1678" h="944">
                <a:moveTo>
                  <a:pt x="0" y="944"/>
                </a:moveTo>
                <a:cubicBezTo>
                  <a:pt x="177" y="600"/>
                  <a:pt x="355" y="256"/>
                  <a:pt x="635" y="128"/>
                </a:cubicBezTo>
                <a:cubicBezTo>
                  <a:pt x="915" y="0"/>
                  <a:pt x="1296" y="86"/>
                  <a:pt x="1678" y="173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cnología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TP con encriptación de 128bit M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es permanentes entre rute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para muchos clientes (estaciones de trabajo windows) y clientes mobiles (trabajo desde casa o viaja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simple para crear un tunel encapsulando paquetes de IP en paquetes IP y mandándolos sobre la red a otro rut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implementa tuneles  IPIP de acuerdo a la norma RFC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protocolo 4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Túnel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83080" cy="2186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4"/>
            <a:endCxn id="240" idx="2"/>
          </p:cNvCxnSpPr>
          <p:nvPr/>
        </p:nvCxnSpPr>
        <p:spPr>
          <a:xfrm>
            <a:off x="3203640" y="4149360"/>
            <a:ext cx="2737080" cy="1080"/>
          </a:xfrm>
          <a:prstGeom prst="straightConnector1">
            <a:avLst/>
          </a:prstGeom>
          <a:ln w="50760">
            <a:solidFill>
              <a:srgbClr val="ff99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1258920" y="33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2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ce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18472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direccione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IP son añadidas a las interfaces del tu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direcciones de 30 bits para ahorrar espacio de direccionamie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0 y 10.1.6.2/30 desde la red 10.1.6.0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usar direccionamiento de punto a pu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2, red 10.1.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7.1/32, red 10.1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ciones IP en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0072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</cp:lastModifiedBy>
  <dcterms:modified xsi:type="dcterms:W3CDTF">2006-03-03T21:40:08Z</dcterms:modified>
  <cp:revision>51</cp:revision>
  <dc:subject/>
  <dc:title>OSPF Configuration</dc:title>
</cp:coreProperties>
</file>