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EE0-8C2E-4F86-9123-B88579FA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A54-FA46-42E7-9D36-A13787F6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23C-C9F9-4CC2-88F7-535FCA66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2F4-D2C5-491C-B008-B3B20EB2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4D02-E8D5-4504-9E14-F7C7319E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547F-BE83-4CB5-B737-4B2DF132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FDBD-2CB2-4F61-BF86-48F2DA81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70A7-443C-4B3B-85E2-200BE3E7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D856-2BC4-45A8-9F69-22CF286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E974-F4BC-469A-9A3F-7AC778E7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6131-6CA5-4E58-9F99-832F1C0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DE4-DC0F-41B4-802A-1693E61A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433-AF1B-46FF-AC6B-14691BE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D1C2-E832-49FC-8789-2D6CA72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D33B-7E33-4CAA-8A13-F7F42D3F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D1BA-24EE-40E6-94DC-06D96975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C5C9-1EE2-466B-9A30-D8ACE619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EB5-FCBC-4F0F-BE64-3E4F682D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0AB-5B81-4EF6-AA05-E7F22EF2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986-5447-4176-8FE7-1E127C05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0F8-E55A-4111-8DD5-D2FF6B0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677-CBBD-4DFE-B1B6-5AC78C15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FD6-B2C6-4E74-9C19-DF07CC12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97A-2ABB-4BFB-8F47-526AA11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6535-BB02-4DA2-8BFD-F16EE342B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9842-3E89-442F-BDD0-70A99178B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br>
              <a:rPr sz="5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ues y conexiones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default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descritas disciplinas de queue (PFIFO, BFIFO, RED, SFQ, PCQ) las cuales están configuradas en “/queue type” son puestas en una interfase. La lista de interfaces esta dada en “/queue interface” y pue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ner una y solo una en cada interf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HTB mencionado antes no es manejado en  “/queue type” y no puede ser explícitamente puesta en una interfase. Hay otros sitios para configurar HTB (“/queue simple” y “/queue tree”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 importante entender que HTB no esta coexistiendo con otra queue en una interface – solamente puede haber un queue y HTB es la preferencial (en caso de que algo este configurado para dicha interface en “/queue simple” y/o “/queue tre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-32040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quetes están siendo clasificados cuando alcanzan el limite de H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gunos atributos de las clases de HT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mit-at – velocidad normal (garantizada o CIR); mientras no es alcanzada,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x-limit – velocidad maxima (MIR); mientras no es alcanzada, la clase es  “amari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ty – prioridad de una clase, solamente importa cuando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puede ser mandado un paque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orden de prioridad (“1” – primero, “8” – ultimo), satisface todas las clases' “limit-at” (mientras la clase es “verd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el parametro “limit-at” es alcanzado (todas las clases son “amarillas”), presta la velocidad no usada desde las clases “padres” si es qyue tienen algo que prestar (si ellas no están en “rojo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funciona H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clase puede estar en los siguientes est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een o verde” – cuando una clase es surtida directamente des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ellow o amarilla” – cuando una clase puede pedir algo prestado desde su 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o rojo” – cuando una clase no puede mandar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una clase se hace “red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bajo que el “burst-threshold” por el tiempo dado en “burst-time”, una clase se hace “red” cuando el “burst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alto que “burst-threshold” por rl tiempo dado en  “burst-time”, una clase se hace “red” cuando “max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B en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050920" y="1268280"/>
          <a:ext cx="46134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46134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-31392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la manera mas fácil de controlar las velocidades de los clientes. Ellas permiten manejar rx, tx y velocidades agregadas justo solo con una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HTB hierarchy están localizadas justamente debajo del “roo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os de queues simple son ejecutados completamente por el Queue HTB en las interfaces “global-out” (queue 'direct') y “global-in” ('reverse' queue). Los filtros “ven” las direcciones IP de los paquetes como si aparecieran en la cadena “forward”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configuradas en “/queue simp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por direccion IP destino (or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 (puedes usar “al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upload/downlo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velocidad  agregada 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 y HotSpot hacen queues simples dina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te limitar la velocidad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nsmisión (upload) para tu PC a 64Kbit/s y recepcion (download) – a 128Kbit/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ueue simple add target=X.X.X.X/32 max-limit=65536/131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, para probarlo , podemos usar una herramienta de medición de ancho de banda para medir la veloc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traves de tu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l gateway. Por favor prueba en ambas direcciones simultáneamente. El protocolo de default es UDP. Trata tambien con TCP y compara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isticas de 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2596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bole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-31716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es de Árbol son mas sofisticadas maneras de manejar el trafico. Ellas permiten construir “hierarchy de clases” a la med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ltros de queues de arbo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n aplicadas en la interface especificada. Los filtros son solamente marcas que el firewall hace a los flujos de paquetes en la opción “mangle” , los filtros “ven” las direcciones de los paquetes como si arribaran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filtros en las interfaces “global-in” and “global-out” son ejecutadas antes que los filtros simples. Se hace notar que los queues simples estan separados en 2 partes – 'direct' (en “global-out”) y 'reverse' (en “global-in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hace configuraciones con doble queueing (ej., en ambas interfaces de queue virtuales), considera que no podrás tener mas que el mínimo de las limitaciones ac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de ár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de árbol son configuradas en “/queue tr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ado de flujo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class o interfase outgoing (incluyendo las interfaces virtuales “global-in” and “global-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 la lim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imposible influenciar los datos recibidos de maner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única vía de controlar la velocidad es tirando paq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tocolo TCP esta “adaptando” un control efectivo de vel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marcado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rafico ‘especifico’ (test de ancho de banda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src-address=:2000 protocol=tcp action=passthrough mark-flow=down_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odo el trafico entrante, TODO ‘no especific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in-interface=office-5 action=passthrough flow=!down_bt mark-flow=down_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arbol de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ya a Queue de árbol y añada un queue para el total de trafico para una interface 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 anada 2 sub-queues para diferentes tipos de flujo de trafico (vea la siguiente diaposi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713120" cy="47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9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trafico ‘especial’ corriendo y el trafico ’non-specific’ usa todo el ancho de banda asignado de 256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6436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ejecutar el test de ancho de banda, ambos tráficos  ‘especial’ y ‘no especial’ 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ncurrentemente usando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459640" cy="23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deberías usar queues simples  y cuando son necesarias las queues de árbol? 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s usar queues simples para limitar trafico marcado por el mangle del fire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urst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queue de “burst” es una manera de ir mas alla del limite del queue por un cierto periodo de tiempo y paq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rametro ‘burst-limit’ es el pico permitido sobr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elocidad puede ser mas alta que el parametro dado en ‘burst-threshold’ por el tiempo dado en ‘burst-tim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ues de exceder el ‘burst-time’, el queue es colapsado al valor ‘limit-at’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y source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stas usando enmascaramiento (source-NATting) para ‘esconder' tu red local detrás del ruteador , 2 acciones están hech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upload , NAT de origen esta hecho cuando los paquetes están abandonando el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download, reverse-source NAT (NAT de destino) eta hecho cuando los paquetes están entrando al ruteador, justo después del m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tanto, tus reglas de mangle no “ven” la direccion IP destino correcta para el trafico de download. La solucion a este dilema es marcar la conexión cuando es establecida y después marcar los paquetes (de upload y download, para los cuales ahora no necesitamos una dirección) que corresponden a dicha conexión, para poder usar ese mark en los queues de ar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71720" y="1112760"/>
            <a:ext cx="7200720" cy="522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con enmascar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a a un host hacer upload de trafico UDP a 128Kbit/s y download de 256Kbit/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src-address=X.X.X.X/32 protocol=udp mark-connection=ud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connection=udp mark-flow=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out flow=pc max-limit=1310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in flow=pc max-limit=2621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aga la prueba de ancho de banda de trafico UDP para ver como trabaja la limitació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mitación vs.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no solamente es limita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es un intento de usar los recursos existentes racionalmente (no es necesario utilizar todo el ancho de banda dispon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cea y prioriza el flujo de datos, asegurando la mejor velocidad posible y previniendo el “monopolio” del canal de datos. Esta es la razón del porque se llama “Quality of Ser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 Connection Queue (PCQ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 es usado para ecualizar a cada usuario en particular o cada conexión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usar PCQ, un nuevo tipo de Queue debe ser añadido con el argumento ‘kind=pcq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os ‘pcq-classifier’ y ‘pcq-rate’ dese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locidad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 PCQ Rate a ‘0’, si no quieres limitar subqueues (ejemplo, que puedan usar el ancho de banda hasta el ‘max-limit’, si hay dispon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92720" cy="2376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0" y="3933720"/>
            <a:ext cx="439272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‘limit-at’ y ‘max-limit’ estan configurados en ‘0’, entonces las subqueues pueden tomar hasta el total de ancho de banda disponible para el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4766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9640" y="479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407664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9640" y="335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263700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128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479592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407664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2205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2565360"/>
            <a:ext cx="1295280" cy="3240000"/>
          </a:xfrm>
          <a:prstGeom prst="rightArrow">
            <a:avLst>
              <a:gd name="adj1" fmla="val 92417"/>
              <a:gd name="adj2" fmla="val 1666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964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‘usuari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981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14828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263700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ndo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379760" cy="4392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44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ategia para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que el trafico P2P es marcado, tu puedes apl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de firewall para tirar todo el trafico P2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rle Queues para limitar el tra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haping es la mas efectiva via de tratar con este tipo de tra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de todo este trafico bajado a un limite bajo o muy bajo, limítelo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para cada usuario con limites difere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e a cada usuario cierta cantidad de ancho de banda para trafico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ciendo Shaping de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380120" cy="4392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formación acerc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cumentacion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mikrotik.com/document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favor v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™ How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nline Reference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básicos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oS es implementado por un mecanismo de queueing. El Queuing maneja la manera en que los paquetes estan esperando por su turno para salir 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ing siempre trabaja sobre la interface de salida. “global-in” (asi como “global-out”) es una interface virtual por si misma, por tanto es la manera en el como puede limitar el trafico entrando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lamente puede haber una disciplina de queue por cad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ciplinas de queueing controlan el orden y velocidad de los paquetes saliendo a traves de la interface, adicionalmente define cuales paquetes deben esperar por su turno para ser enviados fuera y cuales deben ser descarg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Disciplina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s de Queuing pueden ser clasificadas dentro de 2 grupos por su influencia en el flujo de datos – schedulers y sh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 reordena el flujo de paquetes. Este tipo de disciplinas limitan el numero de paquetes esperando, no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 controlan la velocidad del flujo de datos. Adicionalmente pueden hacer un trabajo pro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ras de hacer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F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configurar las propiedades de queue en “/queue typ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FI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FIFO y BFIFO son del tipo FIFO (First-in-First-out) queues con un buffer peq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 de queuing FIFO no cambian el orden del paquete , ellos justamente acumulan los paquetes hasta que un limite definido es sobrepasado. Cuando la interfase va a mandar un paquete el queue FIFO regresa el menos reciente (el que arribó prim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PFIFO es limitada por numero de paqu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BFIFO es limitada por conteo de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esta atento por Random Early Detect (tambien conocido como Random Early Dr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no limita la velocidad, pero cuando el canal esta lleno, lo hace indirectamente ecualizando las velocidades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una longitud promedio de queue “red-min-threshold” , RED empieza a “tirar o drop” paquetes aleatoriamente con un incremento lineal de la probabilidad hasta que el promedio de la longitud del queue alcanza el tamano “red-max-threshol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e es el promedio del tamano del queue es calculado, por tanto el tamano efectivo del queue a un momento debería ser mas alto que el “red-max-threshold”. Es posible especificar un limite para el tamano del queue con la propiedad “red-lim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ta atenta por Per Connect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 una mejoría de la version , la cual permite escoger clasificadores (uno o mas de src-address, dst-address, src-port, dst-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no  limita el numero de subflujos. Puedes controlar cuantos paquetes son guardados por el queue con el parámetro “pcq-lim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la máxima velocidad dada a cada uno de los subfluj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3:11:03Z</dcterms:created>
  <dc:creator>Arnis</dc:creator>
  <dc:description/>
  <dc:language>en-US</dc:language>
  <cp:lastModifiedBy>Alfonso Urbina Araux</cp:lastModifiedBy>
  <dcterms:modified xsi:type="dcterms:W3CDTF">2005-09-24T16:08:31Z</dcterms:modified>
  <cp:revision>60</cp:revision>
  <dc:subject/>
  <dc:title>Quality of Service</dc:title>
</cp:coreProperties>
</file>