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035000" y="717120"/>
            <a:ext cx="4789440" cy="359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14400" y="4549680"/>
            <a:ext cx="50292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2"/>
          </p:nvPr>
        </p:nvSpPr>
        <p:spPr>
          <a:xfrm>
            <a:off x="-360" y="9178920"/>
            <a:ext cx="2971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3"/>
          </p:nvPr>
        </p:nvSpPr>
        <p:spPr>
          <a:xfrm>
            <a:off x="3885840" y="9178920"/>
            <a:ext cx="2971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B402-1651-4E6D-BD6B-D36FD85FD74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035000" y="71748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549680"/>
            <a:ext cx="50292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solução 305 (Regulamento Radiação Restrita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 supressão da exigência “ganho de processamento”- só tem sentido para SS, na modulação digital nã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 possibilitar o uso de equipamentos de alto desempenho e utilização da modulação digi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 características técnicas (potência, ganho antenas, TPC, DFS) e restrições (aplicações p-p) inerentes às novas tecnologia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 faixa 2,4 GHz – estações não licenciadas, restrições técnica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 extensão das alterações para a faixa de 900 M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ddf2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371600" y="1233360"/>
            <a:ext cx="6635520" cy="5315040"/>
            <a:chOff x="1371600" y="1233360"/>
            <a:chExt cx="6635520" cy="5315040"/>
          </a:xfrm>
        </p:grpSpPr>
        <p:sp>
          <p:nvSpPr>
            <p:cNvPr id="2" name=""/>
            <p:cNvSpPr/>
            <p:nvPr/>
          </p:nvSpPr>
          <p:spPr>
            <a:xfrm>
              <a:off x="1371600" y="3119400"/>
              <a:ext cx="2971800" cy="2895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fe1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733400" y="1233360"/>
              <a:ext cx="6273720" cy="5315040"/>
            </a:xfrm>
            <a:custGeom>
              <a:avLst/>
              <a:gdLst/>
              <a:ahLst/>
              <a:rect l="l" t="t" r="r" b="b"/>
              <a:pathLst>
                <a:path w="3952" h="3348">
                  <a:moveTo>
                    <a:pt x="3278" y="3271"/>
                  </a:moveTo>
                  <a:cubicBezTo>
                    <a:pt x="3719" y="3258"/>
                    <a:pt x="3555" y="3269"/>
                    <a:pt x="3641" y="3190"/>
                  </a:cubicBezTo>
                  <a:cubicBezTo>
                    <a:pt x="3727" y="3111"/>
                    <a:pt x="3743" y="2985"/>
                    <a:pt x="3792" y="2800"/>
                  </a:cubicBezTo>
                  <a:cubicBezTo>
                    <a:pt x="3841" y="2615"/>
                    <a:pt x="3920" y="2328"/>
                    <a:pt x="3936" y="2080"/>
                  </a:cubicBezTo>
                  <a:cubicBezTo>
                    <a:pt x="3952" y="1832"/>
                    <a:pt x="3936" y="1536"/>
                    <a:pt x="3888" y="1312"/>
                  </a:cubicBezTo>
                  <a:cubicBezTo>
                    <a:pt x="3840" y="1088"/>
                    <a:pt x="3760" y="904"/>
                    <a:pt x="3648" y="736"/>
                  </a:cubicBezTo>
                  <a:cubicBezTo>
                    <a:pt x="3536" y="568"/>
                    <a:pt x="3384" y="416"/>
                    <a:pt x="3216" y="304"/>
                  </a:cubicBezTo>
                  <a:cubicBezTo>
                    <a:pt x="3048" y="192"/>
                    <a:pt x="2872" y="112"/>
                    <a:pt x="2640" y="64"/>
                  </a:cubicBezTo>
                  <a:cubicBezTo>
                    <a:pt x="2408" y="16"/>
                    <a:pt x="2080" y="0"/>
                    <a:pt x="1824" y="16"/>
                  </a:cubicBezTo>
                  <a:cubicBezTo>
                    <a:pt x="1568" y="32"/>
                    <a:pt x="1328" y="88"/>
                    <a:pt x="1104" y="160"/>
                  </a:cubicBezTo>
                  <a:cubicBezTo>
                    <a:pt x="880" y="232"/>
                    <a:pt x="664" y="328"/>
                    <a:pt x="480" y="448"/>
                  </a:cubicBezTo>
                  <a:cubicBezTo>
                    <a:pt x="296" y="568"/>
                    <a:pt x="0" y="848"/>
                    <a:pt x="0" y="880"/>
                  </a:cubicBezTo>
                  <a:cubicBezTo>
                    <a:pt x="0" y="912"/>
                    <a:pt x="320" y="712"/>
                    <a:pt x="480" y="640"/>
                  </a:cubicBezTo>
                  <a:cubicBezTo>
                    <a:pt x="640" y="568"/>
                    <a:pt x="792" y="488"/>
                    <a:pt x="960" y="448"/>
                  </a:cubicBezTo>
                  <a:cubicBezTo>
                    <a:pt x="1128" y="408"/>
                    <a:pt x="1312" y="392"/>
                    <a:pt x="1488" y="400"/>
                  </a:cubicBezTo>
                  <a:cubicBezTo>
                    <a:pt x="1664" y="408"/>
                    <a:pt x="1872" y="440"/>
                    <a:pt x="2016" y="496"/>
                  </a:cubicBezTo>
                  <a:cubicBezTo>
                    <a:pt x="2160" y="552"/>
                    <a:pt x="2280" y="640"/>
                    <a:pt x="2352" y="736"/>
                  </a:cubicBezTo>
                  <a:cubicBezTo>
                    <a:pt x="2424" y="832"/>
                    <a:pt x="2448" y="936"/>
                    <a:pt x="2448" y="1072"/>
                  </a:cubicBezTo>
                  <a:cubicBezTo>
                    <a:pt x="2448" y="1208"/>
                    <a:pt x="2400" y="1400"/>
                    <a:pt x="2352" y="1552"/>
                  </a:cubicBezTo>
                  <a:cubicBezTo>
                    <a:pt x="2304" y="1704"/>
                    <a:pt x="2256" y="1824"/>
                    <a:pt x="2160" y="1984"/>
                  </a:cubicBezTo>
                  <a:cubicBezTo>
                    <a:pt x="2064" y="2144"/>
                    <a:pt x="1968" y="2304"/>
                    <a:pt x="1776" y="2512"/>
                  </a:cubicBezTo>
                  <a:cubicBezTo>
                    <a:pt x="1584" y="2720"/>
                    <a:pt x="1130" y="3116"/>
                    <a:pt x="1008" y="3232"/>
                  </a:cubicBezTo>
                  <a:cubicBezTo>
                    <a:pt x="886" y="3348"/>
                    <a:pt x="1046" y="3201"/>
                    <a:pt x="1041" y="3206"/>
                  </a:cubicBezTo>
                  <a:cubicBezTo>
                    <a:pt x="1036" y="3211"/>
                    <a:pt x="990" y="3255"/>
                    <a:pt x="978" y="3264"/>
                  </a:cubicBezTo>
                  <a:cubicBezTo>
                    <a:pt x="966" y="3273"/>
                    <a:pt x="960" y="3258"/>
                    <a:pt x="966" y="3258"/>
                  </a:cubicBezTo>
                  <a:cubicBezTo>
                    <a:pt x="972" y="3258"/>
                    <a:pt x="1011" y="3264"/>
                    <a:pt x="1014" y="3266"/>
                  </a:cubicBezTo>
                  <a:cubicBezTo>
                    <a:pt x="1017" y="3268"/>
                    <a:pt x="901" y="3271"/>
                    <a:pt x="984" y="3272"/>
                  </a:cubicBezTo>
                  <a:cubicBezTo>
                    <a:pt x="1067" y="3273"/>
                    <a:pt x="1498" y="3276"/>
                    <a:pt x="1511" y="3275"/>
                  </a:cubicBezTo>
                  <a:cubicBezTo>
                    <a:pt x="1524" y="3274"/>
                    <a:pt x="1059" y="3269"/>
                    <a:pt x="1064" y="3269"/>
                  </a:cubicBezTo>
                  <a:cubicBezTo>
                    <a:pt x="1069" y="3269"/>
                    <a:pt x="1553" y="3275"/>
                    <a:pt x="1542" y="3275"/>
                  </a:cubicBezTo>
                  <a:cubicBezTo>
                    <a:pt x="1531" y="3275"/>
                    <a:pt x="707" y="3272"/>
                    <a:pt x="996" y="3271"/>
                  </a:cubicBezTo>
                  <a:cubicBezTo>
                    <a:pt x="1285" y="3270"/>
                    <a:pt x="2837" y="3296"/>
                    <a:pt x="3278" y="3271"/>
                  </a:cubicBezTo>
                  <a:close/>
                </a:path>
              </a:pathLst>
            </a:custGeom>
            <a:solidFill>
              <a:srgbClr val="fff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0" y="876240"/>
            <a:ext cx="9145440" cy="5537160"/>
            <a:chOff x="0" y="876240"/>
            <a:chExt cx="9145440" cy="5537160"/>
          </a:xfrm>
        </p:grpSpPr>
        <p:grpSp>
          <p:nvGrpSpPr>
            <p:cNvPr id="5" name=""/>
            <p:cNvGrpSpPr/>
            <p:nvPr/>
          </p:nvGrpSpPr>
          <p:grpSpPr>
            <a:xfrm>
              <a:off x="1228680" y="876240"/>
              <a:ext cx="7916760" cy="38160"/>
              <a:chOff x="1228680" y="876240"/>
              <a:chExt cx="7916760" cy="38160"/>
            </a:xfrm>
          </p:grpSpPr>
          <p:sp>
            <p:nvSpPr>
              <p:cNvPr id="6" name=""/>
              <p:cNvSpPr/>
              <p:nvPr/>
            </p:nvSpPr>
            <p:spPr>
              <a:xfrm>
                <a:off x="1228680" y="876240"/>
                <a:ext cx="791676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228680" y="914400"/>
                <a:ext cx="79167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"/>
            <p:cNvGrpSpPr/>
            <p:nvPr/>
          </p:nvGrpSpPr>
          <p:grpSpPr>
            <a:xfrm>
              <a:off x="0" y="6375240"/>
              <a:ext cx="9144000" cy="38160"/>
              <a:chOff x="0" y="6375240"/>
              <a:chExt cx="9144000" cy="38160"/>
            </a:xfrm>
          </p:grpSpPr>
          <p:sp>
            <p:nvSpPr>
              <p:cNvPr id="9" name=""/>
              <p:cNvSpPr/>
              <p:nvPr/>
            </p:nvSpPr>
            <p:spPr>
              <a:xfrm>
                <a:off x="0" y="6375240"/>
                <a:ext cx="914400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413400"/>
                <a:ext cx="91440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" name="logoborda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90720" cy="79848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0" y="6435720"/>
            <a:ext cx="9144000" cy="420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0" y="6438960"/>
            <a:ext cx="9144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Tahoma"/>
                <a:ea typeface="Tahoma"/>
              </a:rPr>
              <a:t>Wireless Brasil - Regulam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natel.gov.br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19320" y="24120"/>
            <a:ext cx="7696080" cy="86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33cc"/>
                </a:solidFill>
                <a:latin typeface="Tahoma"/>
                <a:ea typeface="Tahoma"/>
              </a:rPr>
              <a:t>Wireless Brasil - </a:t>
            </a:r>
            <a:r>
              <a:rPr b="1" lang="pt-BR" sz="3200" spc="-1" strike="noStrike">
                <a:solidFill>
                  <a:srgbClr val="0033cc"/>
                </a:solidFill>
                <a:latin typeface="Tahoma"/>
                <a:ea typeface="Tahoma"/>
              </a:rPr>
              <a:t>Regulamentação</a:t>
            </a:r>
            <a:r>
              <a:rPr b="1" lang="pt-BR" sz="3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cc"/>
                </a:solidFill>
                <a:latin typeface="Arial"/>
              </a:rPr>
              <a:t>São Paulo, 27 de maio de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438960"/>
            <a:ext cx="9144000" cy="419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876920"/>
            <a:ext cx="678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.º Eliézer Alves Teixeira, M.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gência Nacional de Telecomunic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RADIAÇÃO RESTRITA</a:t>
            </a:r>
            <a:br>
              <a:rPr sz="4000"/>
            </a:br>
            <a:br>
              <a:rPr sz="4000"/>
            </a:br>
            <a:r>
              <a:rPr b="1" i="1" lang="pt-BR" sz="4000" spc="-1" strike="noStrike">
                <a:solidFill>
                  <a:srgbClr val="3333cc"/>
                </a:solidFill>
                <a:latin typeface="Arial"/>
              </a:rPr>
              <a:t>Regulamentação Aplicada  a </a:t>
            </a:r>
            <a:r>
              <a:rPr b="1" i="1" lang="pt-PT" sz="4000" spc="-1" strike="noStrike">
                <a:solidFill>
                  <a:srgbClr val="3333cc"/>
                </a:solidFill>
                <a:latin typeface="Arial"/>
              </a:rPr>
              <a:t>Sistemas</a:t>
            </a:r>
            <a:r>
              <a:rPr b="1" i="1" lang="pt-BR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pt-PT" sz="4000" spc="-1" strike="noStrike">
                <a:solidFill>
                  <a:srgbClr val="3333cc"/>
                </a:solidFill>
                <a:latin typeface="Arial"/>
              </a:rPr>
              <a:t>Não Licenciados</a:t>
            </a:r>
            <a:r>
              <a:rPr b="1" i="1" lang="pt-BR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pt-PT" sz="4000" spc="-1" strike="noStrike">
                <a:solidFill>
                  <a:srgbClr val="3333cc"/>
                </a:solidFill>
                <a:latin typeface="Arial"/>
              </a:rPr>
              <a:t>de</a:t>
            </a:r>
            <a:r>
              <a:rPr b="1" i="1" lang="pt-BR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pt-PT" sz="4000" spc="-1" strike="noStrike">
                <a:solidFill>
                  <a:srgbClr val="3333cc"/>
                </a:solidFill>
                <a:latin typeface="Arial"/>
              </a:rPr>
              <a:t>Acesso</a:t>
            </a:r>
            <a:r>
              <a:rPr b="1" i="1" lang="pt-BR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pt-PT" sz="4000" spc="-1" strike="noStrike">
                <a:solidFill>
                  <a:srgbClr val="3333cc"/>
                </a:solidFill>
                <a:latin typeface="Arial"/>
              </a:rPr>
              <a:t>Sem</a:t>
            </a:r>
            <a:r>
              <a:rPr b="1" i="1" lang="pt-BR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pt-PT" sz="4000" spc="-1" strike="noStrike">
                <a:solidFill>
                  <a:srgbClr val="3333cc"/>
                </a:solidFill>
                <a:latin typeface="Arial"/>
              </a:rPr>
              <a:t>Fio</a:t>
            </a:r>
            <a:r>
              <a:rPr b="1" lang="pt-BR" sz="4000" spc="-1" strike="noStrike">
                <a:solidFill>
                  <a:srgbClr val="0033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93480" y="88920"/>
            <a:ext cx="640944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SEÇÃO IX do Regulam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0360" y="1219320"/>
            <a:ext cx="82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Características – 2,4 GH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11040" y="1371600"/>
          <a:ext cx="29844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1371600"/>
                    <a:ext cx="2984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62120" y="2362320"/>
            <a:ext cx="7613280" cy="2862360"/>
            <a:chOff x="762120" y="2362320"/>
            <a:chExt cx="7613280" cy="2862360"/>
          </a:xfrm>
        </p:grpSpPr>
        <p:grpSp>
          <p:nvGrpSpPr>
            <p:cNvPr id="157" name=""/>
            <p:cNvGrpSpPr/>
            <p:nvPr/>
          </p:nvGrpSpPr>
          <p:grpSpPr>
            <a:xfrm>
              <a:off x="762120" y="2362320"/>
              <a:ext cx="3117240" cy="395280"/>
              <a:chOff x="762120" y="2362320"/>
              <a:chExt cx="3117240" cy="395280"/>
            </a:xfrm>
          </p:grpSpPr>
          <p:sp>
            <p:nvSpPr>
              <p:cNvPr id="158" name=""/>
              <p:cNvSpPr/>
              <p:nvPr/>
            </p:nvSpPr>
            <p:spPr>
              <a:xfrm>
                <a:off x="762120" y="2362320"/>
                <a:ext cx="3117240" cy="395280"/>
              </a:xfrm>
              <a:prstGeom prst="rect">
                <a:avLst/>
              </a:prstGeom>
              <a:solidFill>
                <a:srgbClr val="33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762120" y="2362320"/>
                <a:ext cx="3116880" cy="395280"/>
                <a:chOff x="762120" y="2362320"/>
                <a:chExt cx="3116880" cy="3952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829800" y="2362320"/>
                  <a:ext cx="2981520" cy="395280"/>
                </a:xfrm>
                <a:prstGeom prst="rect">
                  <a:avLst/>
                </a:prstGeom>
                <a:solidFill>
                  <a:srgbClr val="33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egulamento Aplicáve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62120" y="2362320"/>
                  <a:ext cx="3116880" cy="395280"/>
                </a:xfrm>
                <a:prstGeom prst="rect">
                  <a:avLst/>
                </a:prstGeom>
                <a:solidFill>
                  <a:srgbClr val="33cccc">
                    <a:alpha val="50000"/>
                  </a:srgbClr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"/>
            <p:cNvGrpSpPr/>
            <p:nvPr/>
          </p:nvGrpSpPr>
          <p:grpSpPr>
            <a:xfrm>
              <a:off x="3879720" y="2362320"/>
              <a:ext cx="1959120" cy="395280"/>
              <a:chOff x="3879720" y="2362320"/>
              <a:chExt cx="1959120" cy="395280"/>
            </a:xfrm>
          </p:grpSpPr>
          <p:sp>
            <p:nvSpPr>
              <p:cNvPr id="163" name=""/>
              <p:cNvSpPr/>
              <p:nvPr/>
            </p:nvSpPr>
            <p:spPr>
              <a:xfrm>
                <a:off x="3879720" y="2362320"/>
                <a:ext cx="1959120" cy="395280"/>
              </a:xfrm>
              <a:prstGeom prst="rect">
                <a:avLst/>
              </a:prstGeom>
              <a:solidFill>
                <a:srgbClr val="33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3879720" y="2362320"/>
                <a:ext cx="1959120" cy="395280"/>
                <a:chOff x="3879720" y="2362320"/>
                <a:chExt cx="1959120" cy="3952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3922560" y="2362320"/>
                  <a:ext cx="1873440" cy="395280"/>
                </a:xfrm>
                <a:prstGeom prst="rect">
                  <a:avLst/>
                </a:prstGeom>
                <a:solidFill>
                  <a:srgbClr val="33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.I.R.P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879720" y="2362320"/>
                  <a:ext cx="1959120" cy="395280"/>
                </a:xfrm>
                <a:prstGeom prst="rect">
                  <a:avLst/>
                </a:prstGeom>
                <a:solidFill>
                  <a:srgbClr val="33cccc">
                    <a:alpha val="50000"/>
                  </a:srgbClr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"/>
            <p:cNvGrpSpPr/>
            <p:nvPr/>
          </p:nvGrpSpPr>
          <p:grpSpPr>
            <a:xfrm>
              <a:off x="5838840" y="2362320"/>
              <a:ext cx="2536560" cy="395280"/>
              <a:chOff x="5838840" y="2362320"/>
              <a:chExt cx="2536560" cy="395280"/>
            </a:xfrm>
          </p:grpSpPr>
          <p:sp>
            <p:nvSpPr>
              <p:cNvPr id="168" name=""/>
              <p:cNvSpPr/>
              <p:nvPr/>
            </p:nvSpPr>
            <p:spPr>
              <a:xfrm>
                <a:off x="5838840" y="2362320"/>
                <a:ext cx="2536560" cy="395280"/>
              </a:xfrm>
              <a:prstGeom prst="rect">
                <a:avLst/>
              </a:prstGeom>
              <a:solidFill>
                <a:srgbClr val="33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5838840" y="2362320"/>
                <a:ext cx="2536200" cy="395280"/>
                <a:chOff x="5838840" y="2362320"/>
                <a:chExt cx="2536200" cy="3952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894280" y="2362320"/>
                  <a:ext cx="2425680" cy="395280"/>
                </a:xfrm>
                <a:prstGeom prst="rect">
                  <a:avLst/>
                </a:prstGeom>
                <a:solidFill>
                  <a:srgbClr val="33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opulaç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838840" y="2362320"/>
                  <a:ext cx="2536200" cy="395280"/>
                </a:xfrm>
                <a:prstGeom prst="rect">
                  <a:avLst/>
                </a:prstGeom>
                <a:solidFill>
                  <a:srgbClr val="33cccc">
                    <a:alpha val="50000"/>
                  </a:srgbClr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762120" y="2757600"/>
              <a:ext cx="3117240" cy="622080"/>
              <a:chOff x="762120" y="2757600"/>
              <a:chExt cx="3117240" cy="622080"/>
            </a:xfrm>
          </p:grpSpPr>
          <p:sp>
            <p:nvSpPr>
              <p:cNvPr id="173" name=""/>
              <p:cNvSpPr/>
              <p:nvPr/>
            </p:nvSpPr>
            <p:spPr>
              <a:xfrm>
                <a:off x="829800" y="2757600"/>
                <a:ext cx="2981880" cy="62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gulamento Específico p/ a Faixa de 2400-2483,5 MHz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62120" y="2757600"/>
                <a:ext cx="3117240" cy="622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879720" y="2757600"/>
              <a:ext cx="1959120" cy="622080"/>
              <a:chOff x="3879720" y="2757600"/>
              <a:chExt cx="1959120" cy="622080"/>
            </a:xfrm>
          </p:grpSpPr>
          <p:sp>
            <p:nvSpPr>
              <p:cNvPr id="176" name=""/>
              <p:cNvSpPr/>
              <p:nvPr/>
            </p:nvSpPr>
            <p:spPr>
              <a:xfrm>
                <a:off x="3922560" y="2757600"/>
                <a:ext cx="1873440" cy="62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3333cc"/>
                    </a:solidFill>
                    <a:latin typeface="Arial"/>
                    <a:ea typeface="Times New Roman"/>
                  </a:rPr>
                  <a:t>&gt;</a:t>
                </a: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400 m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879720" y="2757600"/>
                <a:ext cx="1959120" cy="622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838840" y="2757600"/>
              <a:ext cx="2536560" cy="622080"/>
              <a:chOff x="5838840" y="2757600"/>
              <a:chExt cx="2536560" cy="622080"/>
            </a:xfrm>
          </p:grpSpPr>
          <p:sp>
            <p:nvSpPr>
              <p:cNvPr id="179" name=""/>
              <p:cNvSpPr/>
              <p:nvPr/>
            </p:nvSpPr>
            <p:spPr>
              <a:xfrm>
                <a:off x="5894280" y="2757600"/>
                <a:ext cx="2426040" cy="62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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  <a:ea typeface="Times New Roman"/>
                  </a:rPr>
                  <a:t>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  <a:ea typeface="Times New Roman"/>
                  </a:rPr>
                  <a:t>500 Mil Habitan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38840" y="2757600"/>
                <a:ext cx="2536560" cy="622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62120" y="3379680"/>
              <a:ext cx="3117240" cy="397080"/>
              <a:chOff x="762120" y="3379680"/>
              <a:chExt cx="3117240" cy="397080"/>
            </a:xfrm>
          </p:grpSpPr>
          <p:sp>
            <p:nvSpPr>
              <p:cNvPr id="182" name=""/>
              <p:cNvSpPr/>
              <p:nvPr/>
            </p:nvSpPr>
            <p:spPr>
              <a:xfrm>
                <a:off x="829800" y="3379680"/>
                <a:ext cx="298188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RR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2120" y="3379680"/>
                <a:ext cx="3117240" cy="397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879720" y="3379680"/>
              <a:ext cx="1959120" cy="397080"/>
              <a:chOff x="3879720" y="3379680"/>
              <a:chExt cx="1959120" cy="397080"/>
            </a:xfrm>
          </p:grpSpPr>
          <p:sp>
            <p:nvSpPr>
              <p:cNvPr id="185" name=""/>
              <p:cNvSpPr/>
              <p:nvPr/>
            </p:nvSpPr>
            <p:spPr>
              <a:xfrm>
                <a:off x="3922560" y="3379680"/>
                <a:ext cx="187344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</a:t>
                </a: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400 m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879720" y="3379680"/>
                <a:ext cx="1959120" cy="397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838840" y="3379680"/>
              <a:ext cx="2536560" cy="397080"/>
              <a:chOff x="5838840" y="3379680"/>
              <a:chExt cx="2536560" cy="397080"/>
            </a:xfrm>
          </p:grpSpPr>
          <p:sp>
            <p:nvSpPr>
              <p:cNvPr id="188" name=""/>
              <p:cNvSpPr/>
              <p:nvPr/>
            </p:nvSpPr>
            <p:spPr>
              <a:xfrm>
                <a:off x="5894280" y="3379680"/>
                <a:ext cx="242604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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  <a:ea typeface="Times New Roman"/>
                  </a:rPr>
                  <a:t>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  <a:ea typeface="Times New Roman"/>
                  </a:rPr>
                  <a:t>500 Mil Habitan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38840" y="3379680"/>
                <a:ext cx="2536560" cy="397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762120" y="3776760"/>
              <a:ext cx="3117240" cy="395280"/>
              <a:chOff x="762120" y="3776760"/>
              <a:chExt cx="3117240" cy="395280"/>
            </a:xfrm>
          </p:grpSpPr>
          <p:sp>
            <p:nvSpPr>
              <p:cNvPr id="191" name=""/>
              <p:cNvSpPr/>
              <p:nvPr/>
            </p:nvSpPr>
            <p:spPr>
              <a:xfrm>
                <a:off x="829800" y="3776760"/>
                <a:ext cx="29818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RR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62120" y="3776760"/>
                <a:ext cx="3117240" cy="395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879720" y="3776760"/>
              <a:ext cx="1959120" cy="395280"/>
              <a:chOff x="3879720" y="3776760"/>
              <a:chExt cx="1959120" cy="395280"/>
            </a:xfrm>
          </p:grpSpPr>
          <p:sp>
            <p:nvSpPr>
              <p:cNvPr id="194" name=""/>
              <p:cNvSpPr/>
              <p:nvPr/>
            </p:nvSpPr>
            <p:spPr>
              <a:xfrm>
                <a:off x="3922560" y="3776760"/>
                <a:ext cx="18734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3333cc"/>
                    </a:solidFill>
                    <a:latin typeface="Arial"/>
                    <a:ea typeface="Times New Roman"/>
                  </a:rPr>
                  <a:t>&gt;</a:t>
                </a: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400 m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879720" y="3776760"/>
                <a:ext cx="1959120" cy="395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5838840" y="3776760"/>
              <a:ext cx="2536560" cy="395280"/>
              <a:chOff x="5838840" y="3776760"/>
              <a:chExt cx="2536560" cy="395280"/>
            </a:xfrm>
          </p:grpSpPr>
          <p:sp>
            <p:nvSpPr>
              <p:cNvPr id="197" name=""/>
              <p:cNvSpPr/>
              <p:nvPr/>
            </p:nvSpPr>
            <p:spPr>
              <a:xfrm>
                <a:off x="5894280" y="3776760"/>
                <a:ext cx="2426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  <a:ea typeface="Times New Roman"/>
                  </a:rPr>
                  <a:t>&lt;   500 Mil Habitan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38840" y="3776760"/>
                <a:ext cx="2536560" cy="395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762120" y="4172040"/>
              <a:ext cx="3117240" cy="395280"/>
              <a:chOff x="762120" y="4172040"/>
              <a:chExt cx="3117240" cy="395280"/>
            </a:xfrm>
          </p:grpSpPr>
          <p:sp>
            <p:nvSpPr>
              <p:cNvPr id="200" name=""/>
              <p:cNvSpPr/>
              <p:nvPr/>
            </p:nvSpPr>
            <p:spPr>
              <a:xfrm>
                <a:off x="829800" y="4172040"/>
                <a:ext cx="29818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RR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62120" y="4172040"/>
                <a:ext cx="3117240" cy="395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79720" y="4172040"/>
              <a:ext cx="1959120" cy="395280"/>
              <a:chOff x="3879720" y="4172040"/>
              <a:chExt cx="1959120" cy="395280"/>
            </a:xfrm>
          </p:grpSpPr>
          <p:sp>
            <p:nvSpPr>
              <p:cNvPr id="203" name=""/>
              <p:cNvSpPr/>
              <p:nvPr/>
            </p:nvSpPr>
            <p:spPr>
              <a:xfrm>
                <a:off x="3922560" y="4172040"/>
                <a:ext cx="18734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3333cc"/>
                    </a:solidFill>
                    <a:latin typeface="Arial"/>
                    <a:ea typeface="Times New Roman"/>
                  </a:rPr>
                  <a:t>&lt;</a:t>
                </a: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400 m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879720" y="4172040"/>
                <a:ext cx="1959120" cy="395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5838840" y="4172040"/>
              <a:ext cx="2536560" cy="395280"/>
              <a:chOff x="5838840" y="4172040"/>
              <a:chExt cx="2536560" cy="395280"/>
            </a:xfrm>
          </p:grpSpPr>
          <p:sp>
            <p:nvSpPr>
              <p:cNvPr id="206" name=""/>
              <p:cNvSpPr/>
              <p:nvPr/>
            </p:nvSpPr>
            <p:spPr>
              <a:xfrm>
                <a:off x="5894280" y="4172040"/>
                <a:ext cx="2426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  <a:ea typeface="Times New Roman"/>
                  </a:rPr>
                  <a:t>&lt;   500 Mil Habitan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838840" y="4172040"/>
                <a:ext cx="2536560" cy="395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1822320" y="4948200"/>
              <a:ext cx="640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RRR: Regulamento sobre Equipamentos de Radiocomunicação de Radiação  Restrit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293840" y="88920"/>
            <a:ext cx="627516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SEÇÃO X do Regulam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0360" y="1371600"/>
            <a:ext cx="827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stema de Acesso sem Fio em Banda Larga para Redes Loc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8560" y="2392200"/>
            <a:ext cx="47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aracterís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11040" y="1536840"/>
          <a:ext cx="29844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1536840"/>
                    <a:ext cx="2984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304920" y="2557440"/>
          <a:ext cx="298440" cy="29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557440"/>
                    <a:ext cx="2984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731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838080" y="3198960"/>
            <a:ext cx="7543440" cy="2516040"/>
            <a:chOff x="838080" y="3198960"/>
            <a:chExt cx="7543440" cy="2516040"/>
          </a:xfrm>
        </p:grpSpPr>
        <p:grpSp>
          <p:nvGrpSpPr>
            <p:cNvPr id="219" name=""/>
            <p:cNvGrpSpPr/>
            <p:nvPr/>
          </p:nvGrpSpPr>
          <p:grpSpPr>
            <a:xfrm>
              <a:off x="843840" y="3201480"/>
              <a:ext cx="7530480" cy="2509920"/>
              <a:chOff x="843840" y="3201480"/>
              <a:chExt cx="7530480" cy="250992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43840" y="3201480"/>
                <a:ext cx="1644120" cy="1004040"/>
                <a:chOff x="843840" y="3201480"/>
                <a:chExt cx="1644120" cy="10040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843840" y="3201480"/>
                  <a:ext cx="1644120" cy="501840"/>
                </a:xfrm>
                <a:prstGeom prst="rect">
                  <a:avLst/>
                </a:prstGeom>
                <a:solidFill>
                  <a:srgbClr val="d9d9d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"/>
                <p:cNvGrpSpPr/>
                <p:nvPr/>
              </p:nvGrpSpPr>
              <p:grpSpPr>
                <a:xfrm>
                  <a:off x="843840" y="3201480"/>
                  <a:ext cx="1643760" cy="1004040"/>
                  <a:chOff x="843840" y="3201480"/>
                  <a:chExt cx="1643760" cy="100404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901440" y="3201480"/>
                    <a:ext cx="1527840" cy="1004040"/>
                  </a:xfrm>
                  <a:prstGeom prst="rect">
                    <a:avLst/>
                  </a:prstGeom>
                  <a:solidFill>
                    <a:srgbClr val="d9d9d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Faixas de Radiofreqüência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43840" y="3201480"/>
                    <a:ext cx="1643760" cy="1004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5" name=""/>
              <p:cNvGrpSpPr/>
              <p:nvPr/>
            </p:nvGrpSpPr>
            <p:grpSpPr>
              <a:xfrm>
                <a:off x="2488320" y="3201480"/>
                <a:ext cx="1530000" cy="501840"/>
                <a:chOff x="2488320" y="3201480"/>
                <a:chExt cx="1530000" cy="5018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2488320" y="3201480"/>
                  <a:ext cx="1530000" cy="501840"/>
                </a:xfrm>
                <a:prstGeom prst="rect">
                  <a:avLst/>
                </a:prstGeom>
                <a:solidFill>
                  <a:srgbClr val="d9d9d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7" name=""/>
                <p:cNvGrpSpPr/>
                <p:nvPr/>
              </p:nvGrpSpPr>
              <p:grpSpPr>
                <a:xfrm>
                  <a:off x="2488320" y="3201480"/>
                  <a:ext cx="1529640" cy="501840"/>
                  <a:chOff x="2488320" y="3201480"/>
                  <a:chExt cx="1529640" cy="50184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2545920" y="3201480"/>
                    <a:ext cx="1414080" cy="501840"/>
                  </a:xfrm>
                  <a:prstGeom prst="rect">
                    <a:avLst/>
                  </a:prstGeom>
                  <a:solidFill>
                    <a:srgbClr val="d9d9d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EXIGÊNCI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2488320" y="3201480"/>
                    <a:ext cx="1529640" cy="501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0" name=""/>
              <p:cNvGrpSpPr/>
              <p:nvPr/>
            </p:nvGrpSpPr>
            <p:grpSpPr>
              <a:xfrm>
                <a:off x="4019040" y="3201480"/>
                <a:ext cx="2235600" cy="501840"/>
                <a:chOff x="4019040" y="3201480"/>
                <a:chExt cx="2235600" cy="501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4019040" y="3201480"/>
                  <a:ext cx="2235600" cy="501840"/>
                </a:xfrm>
                <a:prstGeom prst="rect">
                  <a:avLst/>
                </a:prstGeom>
                <a:solidFill>
                  <a:srgbClr val="d9d9d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2" name=""/>
                <p:cNvGrpSpPr/>
                <p:nvPr/>
              </p:nvGrpSpPr>
              <p:grpSpPr>
                <a:xfrm>
                  <a:off x="4019040" y="3201480"/>
                  <a:ext cx="2235240" cy="501840"/>
                  <a:chOff x="4019040" y="3201480"/>
                  <a:chExt cx="2235240" cy="5018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4077000" y="3201480"/>
                    <a:ext cx="2118600" cy="501840"/>
                  </a:xfrm>
                  <a:prstGeom prst="rect">
                    <a:avLst/>
                  </a:prstGeom>
                  <a:solidFill>
                    <a:srgbClr val="d9d9d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otência e.i.r.p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019040" y="3201480"/>
                    <a:ext cx="2235240" cy="501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5" name=""/>
              <p:cNvGrpSpPr/>
              <p:nvPr/>
            </p:nvGrpSpPr>
            <p:grpSpPr>
              <a:xfrm>
                <a:off x="6255000" y="3201480"/>
                <a:ext cx="2119320" cy="1004040"/>
                <a:chOff x="6255000" y="3201480"/>
                <a:chExt cx="2119320" cy="10040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255000" y="3201480"/>
                  <a:ext cx="2119320" cy="501840"/>
                </a:xfrm>
                <a:prstGeom prst="rect">
                  <a:avLst/>
                </a:prstGeom>
                <a:solidFill>
                  <a:srgbClr val="d9d9d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7" name=""/>
                <p:cNvGrpSpPr/>
                <p:nvPr/>
              </p:nvGrpSpPr>
              <p:grpSpPr>
                <a:xfrm>
                  <a:off x="6255000" y="3201480"/>
                  <a:ext cx="2118960" cy="1004040"/>
                  <a:chOff x="6255000" y="3201480"/>
                  <a:chExt cx="2118960" cy="100404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6312600" y="3201480"/>
                    <a:ext cx="2003040" cy="1004040"/>
                  </a:xfrm>
                  <a:prstGeom prst="rect">
                    <a:avLst/>
                  </a:prstGeom>
                  <a:solidFill>
                    <a:srgbClr val="d9d9d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Densidade Espectral de Potência e.i.r.p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6255000" y="3201480"/>
                    <a:ext cx="2118960" cy="1004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0" name=""/>
              <p:cNvGrpSpPr/>
              <p:nvPr/>
            </p:nvGrpSpPr>
            <p:grpSpPr>
              <a:xfrm>
                <a:off x="2488320" y="3703320"/>
                <a:ext cx="696600" cy="501840"/>
                <a:chOff x="2488320" y="3703320"/>
                <a:chExt cx="696600" cy="5018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2488320" y="3703320"/>
                  <a:ext cx="696600" cy="501840"/>
                </a:xfrm>
                <a:prstGeom prst="rect">
                  <a:avLst/>
                </a:prstGeom>
                <a:solidFill>
                  <a:srgbClr val="d9d9d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2" name=""/>
                <p:cNvGrpSpPr/>
                <p:nvPr/>
              </p:nvGrpSpPr>
              <p:grpSpPr>
                <a:xfrm>
                  <a:off x="2488320" y="3703320"/>
                  <a:ext cx="696240" cy="501840"/>
                  <a:chOff x="2488320" y="3703320"/>
                  <a:chExt cx="696240" cy="5018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2545920" y="3703320"/>
                    <a:ext cx="580320" cy="501840"/>
                  </a:xfrm>
                  <a:prstGeom prst="rect">
                    <a:avLst/>
                  </a:prstGeom>
                  <a:solidFill>
                    <a:srgbClr val="d9d9d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DF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488320" y="3703320"/>
                    <a:ext cx="696240" cy="501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5" name=""/>
              <p:cNvGrpSpPr/>
              <p:nvPr/>
            </p:nvGrpSpPr>
            <p:grpSpPr>
              <a:xfrm>
                <a:off x="3185640" y="3703320"/>
                <a:ext cx="833040" cy="501840"/>
                <a:chOff x="3185640" y="3703320"/>
                <a:chExt cx="833040" cy="5018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3185640" y="3703320"/>
                  <a:ext cx="833040" cy="501840"/>
                </a:xfrm>
                <a:prstGeom prst="rect">
                  <a:avLst/>
                </a:prstGeom>
                <a:solidFill>
                  <a:srgbClr val="d9d9d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3185640" y="3703320"/>
                  <a:ext cx="832680" cy="501840"/>
                  <a:chOff x="3185640" y="3703320"/>
                  <a:chExt cx="832680" cy="50184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3243240" y="3703320"/>
                    <a:ext cx="717120" cy="501840"/>
                  </a:xfrm>
                  <a:prstGeom prst="rect">
                    <a:avLst/>
                  </a:prstGeom>
                  <a:solidFill>
                    <a:srgbClr val="d9d9d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TP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185640" y="3703320"/>
                    <a:ext cx="832680" cy="501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"/>
              <p:cNvGrpSpPr/>
              <p:nvPr/>
            </p:nvGrpSpPr>
            <p:grpSpPr>
              <a:xfrm>
                <a:off x="4019040" y="3703320"/>
                <a:ext cx="1134000" cy="501840"/>
                <a:chOff x="4019040" y="3703320"/>
                <a:chExt cx="1134000" cy="50184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4019040" y="3703320"/>
                  <a:ext cx="1134000" cy="501840"/>
                </a:xfrm>
                <a:prstGeom prst="rect">
                  <a:avLst/>
                </a:prstGeom>
                <a:solidFill>
                  <a:srgbClr val="d9d9d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2" name=""/>
                <p:cNvGrpSpPr/>
                <p:nvPr/>
              </p:nvGrpSpPr>
              <p:grpSpPr>
                <a:xfrm>
                  <a:off x="4019040" y="3703320"/>
                  <a:ext cx="1133640" cy="501840"/>
                  <a:chOff x="4019040" y="3703320"/>
                  <a:chExt cx="1133640" cy="50184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>
                    <a:off x="4077000" y="3703320"/>
                    <a:ext cx="1017720" cy="501840"/>
                  </a:xfrm>
                  <a:prstGeom prst="rect">
                    <a:avLst/>
                  </a:prstGeom>
                  <a:solidFill>
                    <a:srgbClr val="d9d9d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Com TP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019040" y="3703320"/>
                    <a:ext cx="1133640" cy="501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5" name=""/>
              <p:cNvGrpSpPr/>
              <p:nvPr/>
            </p:nvGrpSpPr>
            <p:grpSpPr>
              <a:xfrm>
                <a:off x="5153400" y="3703320"/>
                <a:ext cx="1100880" cy="501840"/>
                <a:chOff x="5153400" y="3703320"/>
                <a:chExt cx="1100880" cy="5018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5153400" y="3703320"/>
                  <a:ext cx="1100880" cy="501840"/>
                </a:xfrm>
                <a:prstGeom prst="rect">
                  <a:avLst/>
                </a:prstGeom>
                <a:solidFill>
                  <a:srgbClr val="d9d9d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7" name=""/>
                <p:cNvGrpSpPr/>
                <p:nvPr/>
              </p:nvGrpSpPr>
              <p:grpSpPr>
                <a:xfrm>
                  <a:off x="5153400" y="3703320"/>
                  <a:ext cx="1100520" cy="501840"/>
                  <a:chOff x="5153400" y="3703320"/>
                  <a:chExt cx="1100520" cy="50184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5211360" y="3703320"/>
                    <a:ext cx="983880" cy="501840"/>
                  </a:xfrm>
                  <a:prstGeom prst="rect">
                    <a:avLst/>
                  </a:prstGeom>
                  <a:solidFill>
                    <a:srgbClr val="d9d9d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Sem TP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153400" y="3703320"/>
                    <a:ext cx="1100520" cy="501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0" name=""/>
              <p:cNvGrpSpPr/>
              <p:nvPr/>
            </p:nvGrpSpPr>
            <p:grpSpPr>
              <a:xfrm>
                <a:off x="843840" y="4205520"/>
                <a:ext cx="1644120" cy="501840"/>
                <a:chOff x="843840" y="4205520"/>
                <a:chExt cx="1644120" cy="5018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901440" y="4205520"/>
                  <a:ext cx="152820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150-5250 MH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43840" y="4205520"/>
                  <a:ext cx="16441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488320" y="4205520"/>
                <a:ext cx="696600" cy="501840"/>
                <a:chOff x="2488320" y="4205520"/>
                <a:chExt cx="696600" cy="5018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545920" y="4205520"/>
                  <a:ext cx="58068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ã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488320" y="4205520"/>
                  <a:ext cx="6966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185640" y="4205520"/>
                <a:ext cx="833040" cy="501840"/>
                <a:chOff x="3185640" y="4205520"/>
                <a:chExt cx="833040" cy="5018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243240" y="4205520"/>
                  <a:ext cx="71748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i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185640" y="4205520"/>
                  <a:ext cx="83304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4019040" y="4205520"/>
                <a:ext cx="1134000" cy="501840"/>
                <a:chOff x="4019040" y="4205520"/>
                <a:chExt cx="1134000" cy="5018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077000" y="4205520"/>
                  <a:ext cx="101808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0 m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019040" y="4205520"/>
                  <a:ext cx="11340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153400" y="4205520"/>
                <a:ext cx="1100880" cy="501840"/>
                <a:chOff x="5153400" y="4205520"/>
                <a:chExt cx="1100880" cy="5018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211360" y="4205520"/>
                  <a:ext cx="98424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00 m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153400" y="4205520"/>
                  <a:ext cx="110088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255000" y="4205520"/>
                <a:ext cx="2119320" cy="501840"/>
                <a:chOff x="6255000" y="4205520"/>
                <a:chExt cx="2119320" cy="5018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6312600" y="4205520"/>
                  <a:ext cx="200340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0 mW/MH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255000" y="4205520"/>
                  <a:ext cx="21193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843840" y="4707360"/>
                <a:ext cx="1644120" cy="501840"/>
                <a:chOff x="843840" y="4707360"/>
                <a:chExt cx="1644120" cy="501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901440" y="4707360"/>
                  <a:ext cx="152820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250-5350 MH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43840" y="4707360"/>
                  <a:ext cx="16441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2488320" y="4707360"/>
                <a:ext cx="696600" cy="501840"/>
                <a:chOff x="2488320" y="4707360"/>
                <a:chExt cx="696600" cy="5018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2545920" y="4707360"/>
                  <a:ext cx="58068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i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488320" y="4707360"/>
                  <a:ext cx="6966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3185640" y="4707360"/>
                <a:ext cx="833040" cy="501840"/>
                <a:chOff x="3185640" y="4707360"/>
                <a:chExt cx="833040" cy="5018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3243240" y="4707360"/>
                  <a:ext cx="71748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i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185640" y="4707360"/>
                  <a:ext cx="83304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4019040" y="4707360"/>
                <a:ext cx="1134000" cy="501840"/>
                <a:chOff x="4019040" y="4707360"/>
                <a:chExt cx="1134000" cy="5018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4077000" y="4707360"/>
                  <a:ext cx="101808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0 m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019040" y="4707360"/>
                  <a:ext cx="11340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5153400" y="4707360"/>
                <a:ext cx="1100880" cy="501840"/>
                <a:chOff x="5153400" y="4707360"/>
                <a:chExt cx="1100880" cy="501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211360" y="4707360"/>
                  <a:ext cx="98424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00 m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153400" y="4707360"/>
                  <a:ext cx="110088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6255000" y="4707360"/>
                <a:ext cx="2119320" cy="501840"/>
                <a:chOff x="6255000" y="4707360"/>
                <a:chExt cx="2119320" cy="5018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312600" y="4707360"/>
                  <a:ext cx="200340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0 mW/MH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255000" y="4707360"/>
                  <a:ext cx="21193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843840" y="5209560"/>
                <a:ext cx="1644120" cy="501840"/>
                <a:chOff x="843840" y="5209560"/>
                <a:chExt cx="1644120" cy="5018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901440" y="5209560"/>
                  <a:ext cx="152820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470-5725 MH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43840" y="5209560"/>
                  <a:ext cx="16441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2488320" y="5209560"/>
                <a:ext cx="696600" cy="501840"/>
                <a:chOff x="2488320" y="5209560"/>
                <a:chExt cx="696600" cy="5018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2545920" y="5209560"/>
                  <a:ext cx="58068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i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488320" y="5209560"/>
                  <a:ext cx="6966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185640" y="5209560"/>
                <a:ext cx="833040" cy="501840"/>
                <a:chOff x="3185640" y="5209560"/>
                <a:chExt cx="833040" cy="5018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243240" y="5209560"/>
                  <a:ext cx="71748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i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185640" y="5209560"/>
                  <a:ext cx="83304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4019040" y="5209560"/>
                <a:ext cx="1134000" cy="501840"/>
                <a:chOff x="4019040" y="5209560"/>
                <a:chExt cx="1134000" cy="5018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4077000" y="5209560"/>
                  <a:ext cx="101808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 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019040" y="5209560"/>
                  <a:ext cx="11340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5153400" y="5209560"/>
                <a:ext cx="1100880" cy="501840"/>
                <a:chOff x="5153400" y="5209560"/>
                <a:chExt cx="1100880" cy="50184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5211360" y="5209560"/>
                  <a:ext cx="98424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00 m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153400" y="5209560"/>
                  <a:ext cx="110088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6255000" y="5209560"/>
                <a:ext cx="2119320" cy="501840"/>
                <a:chOff x="6255000" y="5209560"/>
                <a:chExt cx="2119320" cy="5018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312600" y="5209560"/>
                  <a:ext cx="200340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0 mW/MH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255000" y="5209560"/>
                  <a:ext cx="21193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4" name=""/>
            <p:cNvSpPr/>
            <p:nvPr/>
          </p:nvSpPr>
          <p:spPr>
            <a:xfrm>
              <a:off x="838080" y="3198960"/>
              <a:ext cx="7543440" cy="2516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0" y="54878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57200" y="1979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3333cc"/>
                </a:solidFill>
                <a:latin typeface="Arial"/>
              </a:rPr>
              <a:t>2,4 GH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4113360"/>
            <a:ext cx="1143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3333cc"/>
                </a:solidFill>
                <a:latin typeface="Arial"/>
              </a:rPr>
              <a:t>5   GH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54560" y="2514600"/>
            <a:ext cx="6984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802.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91320" y="4113360"/>
            <a:ext cx="838080" cy="382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802.11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057400" y="251460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BLUETOO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57400" y="1981080"/>
            <a:ext cx="83808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802.11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971800" y="2133720"/>
            <a:ext cx="1522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124080" y="2133360"/>
            <a:ext cx="0" cy="533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71800" y="266688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2057400"/>
            <a:ext cx="27813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1320" y="1905120"/>
            <a:ext cx="685800" cy="30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802.11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91320" y="4648320"/>
            <a:ext cx="251460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</a:rPr>
              <a:t>HIPERLAN 2 – DFS E TP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315200" y="4114800"/>
            <a:ext cx="9907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802.11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5257800"/>
            <a:ext cx="2514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Arial"/>
              </a:rPr>
              <a:t>6 A 54 Mbit/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719760" y="4309920"/>
            <a:ext cx="533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057400" y="5257800"/>
            <a:ext cx="209556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Arial"/>
              </a:rPr>
              <a:t>1 A 11 Mbit/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2971800"/>
            <a:ext cx="209556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FHSS E DSS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91320" y="2971800"/>
            <a:ext cx="251460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OFD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343400" y="5486400"/>
            <a:ext cx="129528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94920" y="88560"/>
            <a:ext cx="533412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Arial"/>
              </a:rPr>
              <a:t>Evolução dos padrõ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4920" y="88560"/>
            <a:ext cx="586764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Arial"/>
              </a:rPr>
              <a:t>Resultados da WRC – 0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90720" y="12952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AIXA DE 5GHZ, ATRIBUIÇÃO (REGIÕES 1, 2 E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91800" y="1858680"/>
            <a:ext cx="9120960" cy="3884400"/>
            <a:chOff x="91800" y="1858680"/>
            <a:chExt cx="9120960" cy="3884400"/>
          </a:xfrm>
        </p:grpSpPr>
        <p:sp>
          <p:nvSpPr>
            <p:cNvPr id="340" name=""/>
            <p:cNvSpPr/>
            <p:nvPr/>
          </p:nvSpPr>
          <p:spPr>
            <a:xfrm flipH="1" flipV="1" rot="1804800">
              <a:off x="959760" y="1904040"/>
              <a:ext cx="401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51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 rot="1731000">
              <a:off x="2048040" y="1904040"/>
              <a:ext cx="3812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52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 rot="1452600">
              <a:off x="3170160" y="1904040"/>
              <a:ext cx="401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53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 rot="1452600">
              <a:off x="4470480" y="1905120"/>
              <a:ext cx="4014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54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 rot="1452600">
              <a:off x="4846680" y="1904040"/>
              <a:ext cx="401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54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 rot="1452600">
              <a:off x="6370560" y="1904040"/>
              <a:ext cx="401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55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 rot="1452600">
              <a:off x="7742160" y="1904040"/>
              <a:ext cx="401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56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 rot="1452600">
              <a:off x="8656560" y="1904040"/>
              <a:ext cx="401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572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57320" y="4267080"/>
              <a:ext cx="7772400" cy="609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57320" y="2816280"/>
              <a:ext cx="77724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57320" y="2666880"/>
              <a:ext cx="0" cy="30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829720" y="2666880"/>
              <a:ext cx="0" cy="304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543720" y="5492520"/>
              <a:ext cx="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67000" y="2666880"/>
              <a:ext cx="0" cy="304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28680" y="2819160"/>
              <a:ext cx="1138320" cy="8380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EESS, RLS, S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57320" y="2819160"/>
              <a:ext cx="1076400" cy="8380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AR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F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68800" y="2819160"/>
              <a:ext cx="1284120" cy="8380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EESS, AR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RADIOLOC (SEC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4327560" y="3042360"/>
              <a:ext cx="837720" cy="39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RADIOLOC SE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57320" y="5486400"/>
              <a:ext cx="77724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43520" y="2819160"/>
              <a:ext cx="2971800" cy="8380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MRNV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RADIOLOC (SEC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15320" y="2819160"/>
              <a:ext cx="914400" cy="8380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R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RADAMAD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(SEC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28680" y="3657600"/>
              <a:ext cx="1138320" cy="60912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FW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FIXO REGIÃO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49680" y="3659040"/>
              <a:ext cx="1990800" cy="60912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EESS/S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ATRIBUIÇÃO PRIMÁR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57320" y="4267080"/>
              <a:ext cx="2209680" cy="60912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MÓ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WAS INCLUI RL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43520" y="4267080"/>
              <a:ext cx="3886200" cy="60912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MÓ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WAS INCLUINDO RL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67000" y="4876560"/>
              <a:ext cx="4648320" cy="60948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RADIOLOCALIZAÇÃ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CARÁTER PRIMÁ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21594600">
              <a:off x="92160" y="2931840"/>
              <a:ext cx="904680" cy="477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SITUAÇÃ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30600">
              <a:off x="104400" y="3828960"/>
              <a:ext cx="914400" cy="1172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WRC–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943520" y="5489280"/>
              <a:ext cx="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41720" y="26683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28680" y="2630520"/>
              <a:ext cx="0" cy="17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28680" y="4879800"/>
              <a:ext cx="0" cy="86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915320" y="269712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915320" y="5497560"/>
              <a:ext cx="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49680" y="5494320"/>
              <a:ext cx="180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68800" y="3657600"/>
              <a:ext cx="1284120" cy="61056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S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ATRIBUIÇÃO PRIMÁR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53080" y="2676240"/>
              <a:ext cx="0" cy="16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28600" y="5689440"/>
            <a:ext cx="86868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EESS &gt; Serviço de Exploração da Terra por Satélite</a:t>
            </a:r>
            <a:r>
              <a:rPr b="1" lang="pt-BR" sz="800" spc="-1" strike="noStrike">
                <a:solidFill>
                  <a:srgbClr val="3333cc"/>
                </a:solidFill>
                <a:latin typeface="Arial"/>
              </a:rPr>
              <a:t>                  </a:t>
            </a: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 SRS         &gt; Serviço de Pesquisa Espaci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RLS   &gt; Serviço de Radiolocalização        </a:t>
            </a: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ARNS      &gt; Serviço de Radionavegação Aeronáut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FSS   &gt;  Serviço Fixo por Satélite</a:t>
            </a: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MRNVS   &gt; Serviço de Radionavegação Marítim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95280" y="88560"/>
            <a:ext cx="685800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Visão do Espectr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389400" y="1143000"/>
            <a:ext cx="25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FAIXA DE 5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05040" y="2743200"/>
            <a:ext cx="7920" cy="32004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6019920"/>
            <a:ext cx="304920" cy="2286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c19a73"/>
              </a:gs>
              <a:gs pos="100000">
                <a:srgbClr val="ffcc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" y="5715000"/>
            <a:ext cx="304920" cy="228600"/>
          </a:xfrm>
          <a:prstGeom prst="rect">
            <a:avLst/>
          </a:prstGeom>
          <a:gradFill rotWithShape="0">
            <a:gsLst>
              <a:gs pos="0">
                <a:srgbClr val="8686a8"/>
              </a:gs>
              <a:gs pos="50000">
                <a:srgbClr val="ccccff"/>
              </a:gs>
              <a:gs pos="100000">
                <a:srgbClr val="8686a8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2400" y="568656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Arial"/>
              </a:rPr>
              <a:t>U-N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52400" y="599616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Arial"/>
              </a:rPr>
              <a:t>RADIAÇÃO RESTR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553160" y="2647800"/>
            <a:ext cx="1209960" cy="5209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c19a73"/>
              </a:gs>
              <a:gs pos="100000">
                <a:srgbClr val="ffcc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763120" y="2341440"/>
            <a:ext cx="0" cy="336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2648600">
            <a:off x="1625040" y="1809360"/>
            <a:ext cx="355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5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7543800" y="2467080"/>
            <a:ext cx="15840" cy="32288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703600" y="2647800"/>
            <a:ext cx="988920" cy="381240"/>
          </a:xfrm>
          <a:prstGeom prst="rect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NDO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OUTDO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556400" y="2647800"/>
            <a:ext cx="1016280" cy="381240"/>
          </a:xfrm>
          <a:prstGeom prst="rect">
            <a:avLst/>
          </a:prstGeom>
          <a:gradFill rotWithShape="0">
            <a:gsLst>
              <a:gs pos="0">
                <a:srgbClr val="8686a8"/>
              </a:gs>
              <a:gs pos="50000">
                <a:srgbClr val="ccccff"/>
              </a:gs>
              <a:gs pos="100000">
                <a:srgbClr val="8686a8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NDO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OUTDO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43120" y="3429000"/>
            <a:ext cx="1952640" cy="380880"/>
          </a:xfrm>
          <a:prstGeom prst="rect">
            <a:avLst/>
          </a:prstGeom>
          <a:solidFill>
            <a:srgbClr val="ffcc0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43120" y="4191120"/>
            <a:ext cx="1952640" cy="380880"/>
          </a:xfrm>
          <a:prstGeom prst="rect">
            <a:avLst/>
          </a:prstGeom>
          <a:solidFill>
            <a:srgbClr val="ffcc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NDO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75120" y="4191120"/>
            <a:ext cx="2687760" cy="380880"/>
          </a:xfrm>
          <a:prstGeom prst="rect">
            <a:avLst/>
          </a:prstGeom>
          <a:solidFill>
            <a:srgbClr val="ffcc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NDOOR / OUTDO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43120" y="2647800"/>
            <a:ext cx="958680" cy="381240"/>
          </a:xfrm>
          <a:prstGeom prst="rect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75120" y="3429000"/>
            <a:ext cx="2687760" cy="380880"/>
          </a:xfrm>
          <a:prstGeom prst="rect">
            <a:avLst/>
          </a:prstGeom>
          <a:solidFill>
            <a:srgbClr val="ffcc0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DOOR / OUT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545240" y="4191120"/>
            <a:ext cx="1217880" cy="380880"/>
          </a:xfrm>
          <a:prstGeom prst="rect">
            <a:avLst/>
          </a:prstGeom>
          <a:gradFill rotWithShape="0">
            <a:gsLst>
              <a:gs pos="0">
                <a:srgbClr val="ffcc99">
                  <a:alpha val="50196"/>
                </a:srgbClr>
              </a:gs>
              <a:gs pos="50000">
                <a:srgbClr val="c19a73"/>
              </a:gs>
              <a:gs pos="100000">
                <a:srgbClr val="ffcc99">
                  <a:alpha val="50196"/>
                </a:srgbClr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DO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OUT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736640" y="5315040"/>
            <a:ext cx="6867720" cy="14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31960" y="2647800"/>
            <a:ext cx="68580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693960" y="2495520"/>
            <a:ext cx="0" cy="320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870440" y="2495520"/>
            <a:ext cx="0" cy="320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26020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EUA   U-N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333360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EUROPA   HIPERLA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80880" y="412596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33cc"/>
                </a:solidFill>
                <a:latin typeface="Arial"/>
              </a:rPr>
              <a:t>BRA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(Res. nº 3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828800" y="2138400"/>
            <a:ext cx="76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200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pt-BR" sz="1200" spc="-1" strike="noStrike">
                <a:solidFill>
                  <a:srgbClr val="3333cc"/>
                </a:solidFill>
                <a:latin typeface="Arial"/>
              </a:rPr>
              <a:t>E.I.R.P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819520" y="2138400"/>
            <a:ext cx="76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1 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(E.I.R.P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620120" y="2138400"/>
            <a:ext cx="76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4 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E.I.R.P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318132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1 W (</a:t>
            </a: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E.I.R.P.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0" y="394344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200 mW(</a:t>
            </a:r>
            <a:r>
              <a:rPr b="0" i="1" lang="pt-BR" sz="1200" spc="-1" strike="noStrike">
                <a:solidFill>
                  <a:srgbClr val="3333cc"/>
                </a:solidFill>
                <a:latin typeface="Arial"/>
              </a:rPr>
              <a:t>E.I.R.P.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638680" y="394344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1 W (</a:t>
            </a: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E.I.R.P.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715160" y="3714840"/>
            <a:ext cx="76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4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E.I.R.P.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876920" y="2643120"/>
            <a:ext cx="2676240" cy="38412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DOOR / OUT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172200" y="2062080"/>
            <a:ext cx="762120" cy="495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1 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E.I.R.P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582040" y="2341440"/>
            <a:ext cx="0" cy="336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2648600">
            <a:off x="8407080" y="1676520"/>
            <a:ext cx="35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58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2648600">
            <a:off x="2590200" y="1809360"/>
            <a:ext cx="355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52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2648600">
            <a:off x="7390800" y="1809360"/>
            <a:ext cx="355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57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2648600">
            <a:off x="4723920" y="1809720"/>
            <a:ext cx="35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54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2648600">
            <a:off x="3530160" y="1809720"/>
            <a:ext cx="35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5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2648600">
            <a:off x="8711640" y="1676160"/>
            <a:ext cx="355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58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209680" y="31813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200 mW(</a:t>
            </a:r>
            <a:r>
              <a:rPr b="0" i="1" lang="pt-BR" sz="1200" spc="-1" strike="noStrike">
                <a:solidFill>
                  <a:srgbClr val="3333cc"/>
                </a:solidFill>
                <a:latin typeface="Arial"/>
              </a:rPr>
              <a:t>E.I.R.P.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3520" y="485784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WRC-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43120" y="4933800"/>
            <a:ext cx="1952640" cy="381240"/>
          </a:xfrm>
          <a:prstGeom prst="rect">
            <a:avLst/>
          </a:prstGeom>
          <a:solidFill>
            <a:srgbClr val="66ccff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AS INCLUI RLAN (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70440" y="4933800"/>
            <a:ext cx="2682720" cy="381240"/>
          </a:xfrm>
          <a:prstGeom prst="rect">
            <a:avLst/>
          </a:prstGeom>
          <a:solidFill>
            <a:srgbClr val="66ccff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AS INCLUI RLAN (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438280" y="4705200"/>
            <a:ext cx="527040" cy="165240"/>
          </a:xfrm>
          <a:prstGeom prst="downArrowCallout">
            <a:avLst>
              <a:gd name="adj1" fmla="val 79746"/>
              <a:gd name="adj2" fmla="val 79739"/>
              <a:gd name="adj3" fmla="val 16667"/>
              <a:gd name="adj4" fmla="val 66667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13440" y="4705200"/>
            <a:ext cx="527040" cy="165240"/>
          </a:xfrm>
          <a:prstGeom prst="downArrowCallout">
            <a:avLst>
              <a:gd name="adj1" fmla="val 79746"/>
              <a:gd name="adj2" fmla="val 79739"/>
              <a:gd name="adj3" fmla="val 16667"/>
              <a:gd name="adj4" fmla="val 66667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743120" y="2495520"/>
            <a:ext cx="0" cy="320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389400" y="1066680"/>
            <a:ext cx="25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FAIXA DE 2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94920" y="88560"/>
            <a:ext cx="579132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Proposta de Alteraçã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52280" y="1408320"/>
            <a:ext cx="9296640" cy="2935080"/>
            <a:chOff x="152280" y="1408320"/>
            <a:chExt cx="9296640" cy="2935080"/>
          </a:xfrm>
        </p:grpSpPr>
        <p:sp>
          <p:nvSpPr>
            <p:cNvPr id="432" name=""/>
            <p:cNvSpPr/>
            <p:nvPr/>
          </p:nvSpPr>
          <p:spPr>
            <a:xfrm rot="12196800">
              <a:off x="1198440" y="1444320"/>
              <a:ext cx="3556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2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1865600">
              <a:off x="4525560" y="1596240"/>
              <a:ext cx="3556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2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1857800">
              <a:off x="8008560" y="1444680"/>
              <a:ext cx="3556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2483,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62240" y="3197160"/>
              <a:ext cx="7248240" cy="3812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                      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SARC - Fixo / Móvel                                                       SARC - Fixo / Mó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71600" y="2816280"/>
              <a:ext cx="683748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24280" y="2811600"/>
              <a:ext cx="3505320" cy="384120"/>
            </a:xfrm>
            <a:prstGeom prst="rect">
              <a:avLst/>
            </a:prstGeom>
            <a:gradFill rotWithShape="0">
              <a:gsLst>
                <a:gs pos="0">
                  <a:srgbClr val="dbaf83"/>
                </a:gs>
                <a:gs pos="50000">
                  <a:srgbClr val="ffcc99"/>
                </a:gs>
                <a:gs pos="100000">
                  <a:srgbClr val="dbaf83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Radiação Restri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1758800">
              <a:off x="8407440" y="1596240"/>
              <a:ext cx="3556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24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57200" y="2284560"/>
              <a:ext cx="1800" cy="20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24280" y="2282760"/>
              <a:ext cx="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229600" y="2282760"/>
              <a:ext cx="0" cy="20574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610480" y="2282760"/>
              <a:ext cx="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355760" y="4111560"/>
              <a:ext cx="725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24280" y="3578400"/>
              <a:ext cx="3505320" cy="533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eefef"/>
                </a:gs>
                <a:gs pos="100000">
                  <a:srgbClr val="ff00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Região de Interferê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686800" y="174960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"/>
                </a:rPr>
                <a:t>M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724280" y="2432160"/>
              <a:ext cx="2210040" cy="384120"/>
            </a:xfrm>
            <a:prstGeom prst="rect">
              <a:avLst/>
            </a:prstGeom>
            <a:gradFill rotWithShape="0">
              <a:gsLst>
                <a:gs pos="0">
                  <a:srgbClr val="afafdb"/>
                </a:gs>
                <a:gs pos="50000">
                  <a:srgbClr val="ccccff"/>
                </a:gs>
                <a:gs pos="100000">
                  <a:srgbClr val="afafdb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Radioamador - Secundá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34320" y="2282760"/>
              <a:ext cx="0" cy="53352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1865600">
              <a:off x="6730560" y="1520640"/>
              <a:ext cx="3556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24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2280" y="2739960"/>
              <a:ext cx="1067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SITUAÇÃO AN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8229600" y="4510080"/>
            <a:ext cx="0" cy="18144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62240" y="5538960"/>
            <a:ext cx="7248240" cy="4442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ARC - FIXO / MÓVEL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           SARC - FIXO / MÓ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USO PREFERENCIAL-MÓVEL)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     (USO PREFERENCIAL-FIX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705200" y="5024520"/>
            <a:ext cx="3524400" cy="52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cc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33cc"/>
                </a:solidFill>
                <a:latin typeface="Arial"/>
              </a:rPr>
              <a:t>RADIAÇÃO RESTRITA – </a:t>
            </a:r>
            <a:r>
              <a:rPr b="1" lang="pt-PT" sz="1200" spc="-1" strike="noStrike">
                <a:solidFill>
                  <a:srgbClr val="3333cc"/>
                </a:solidFill>
                <a:latin typeface="Arial"/>
              </a:rPr>
              <a:t>400</a:t>
            </a:r>
            <a:r>
              <a:rPr b="1" lang="pt-BR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PT" sz="1200" spc="-1" strike="noStrike">
                <a:solidFill>
                  <a:srgbClr val="3333cc"/>
                </a:solidFill>
                <a:latin typeface="Arial"/>
              </a:rPr>
              <a:t>m</a:t>
            </a:r>
            <a:r>
              <a:rPr b="1" lang="pt-BR" sz="1200" spc="-1" strike="noStrike">
                <a:solidFill>
                  <a:srgbClr val="3333cc"/>
                </a:solidFill>
                <a:latin typeface="Arial"/>
              </a:rPr>
              <a:t>W E.I.R.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33cc"/>
                </a:solidFill>
                <a:latin typeface="Arial"/>
              </a:rPr>
              <a:t>NÃO LICENCI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705200" y="4525920"/>
            <a:ext cx="3524400" cy="4939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eecdb"/>
              </a:gs>
              <a:gs pos="100000">
                <a:srgbClr val="ffcc99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Novo Regulamento – 4W E.I.R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</a:rPr>
              <a:t>FIXO/LICENCIADO (EM CARÁTER SECUNDÁRI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705200" y="4510080"/>
            <a:ext cx="1800" cy="18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52280" y="49165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ROPO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610480" y="4510080"/>
            <a:ext cx="0" cy="18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59000" y="4508640"/>
            <a:ext cx="1440" cy="18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309600" y="1600200"/>
            <a:ext cx="8605800" cy="3958560"/>
            <a:chOff x="309600" y="1600200"/>
            <a:chExt cx="8605800" cy="3958560"/>
          </a:xfrm>
        </p:grpSpPr>
        <p:sp>
          <p:nvSpPr>
            <p:cNvPr id="460" name=""/>
            <p:cNvSpPr/>
            <p:nvPr/>
          </p:nvSpPr>
          <p:spPr>
            <a:xfrm>
              <a:off x="625320" y="1600200"/>
              <a:ext cx="8290080" cy="39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0033cc"/>
                  </a:solidFill>
                  <a:latin typeface="Arial"/>
                </a:rPr>
                <a:t>Novo Regulamento para 2,4 GHz:</a:t>
              </a: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- Acima de 400 mW EIRP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- População acima de 500.000 habitantes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50000"/>
                </a:lnSpc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OFDM e Espalhamento Espectra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50000"/>
                </a:lnSpc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Fix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50000"/>
                </a:lnSpc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Licenci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50000"/>
                </a:lnSpc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Caráter Secundár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61" name=""/>
            <p:cNvGraphicFramePr/>
            <p:nvPr/>
          </p:nvGraphicFramePr>
          <p:xfrm>
            <a:off x="309600" y="1714680"/>
            <a:ext cx="252360" cy="26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9600" y="1714680"/>
                      <a:ext cx="25236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63" name=""/>
          <p:cNvSpPr/>
          <p:nvPr/>
        </p:nvSpPr>
        <p:spPr>
          <a:xfrm>
            <a:off x="1295280" y="380880"/>
            <a:ext cx="7848720" cy="36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08000" bIns="0" anchor="t">
            <a:sp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Proposta</a:t>
            </a:r>
            <a:r>
              <a:rPr b="1" lang="pt-PT" sz="2400" spc="-1" strike="noStrike">
                <a:solidFill>
                  <a:srgbClr val="0033cc"/>
                </a:solidFill>
                <a:latin typeface="Arial"/>
              </a:rPr>
              <a:t> Encaminhada ao CD para Consulta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420840" y="1143000"/>
            <a:ext cx="8223120" cy="3348000"/>
            <a:chOff x="420840" y="1143000"/>
            <a:chExt cx="8223120" cy="3348000"/>
          </a:xfrm>
        </p:grpSpPr>
        <p:sp>
          <p:nvSpPr>
            <p:cNvPr id="465" name=""/>
            <p:cNvSpPr/>
            <p:nvPr/>
          </p:nvSpPr>
          <p:spPr>
            <a:xfrm>
              <a:off x="762120" y="1143000"/>
              <a:ext cx="7881840" cy="33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Uso da tecnologia tem sido voltado para “hot-spots” – locais de grande concentração de laptops e PDA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Hotéis e cafés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Centro de relaxamento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Espaços de entretenimento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Aeroportos e aeronaves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Rodovias e ferrovias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Centros de convençõ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66" name=""/>
            <p:cNvGraphicFramePr/>
            <p:nvPr/>
          </p:nvGraphicFramePr>
          <p:xfrm>
            <a:off x="420840" y="1246320"/>
            <a:ext cx="252360" cy="25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0840" y="1246320"/>
                      <a:ext cx="25236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68" name=""/>
          <p:cNvSpPr/>
          <p:nvPr/>
        </p:nvSpPr>
        <p:spPr>
          <a:xfrm>
            <a:off x="1295280" y="88200"/>
            <a:ext cx="480060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800" spc="-1" strike="noStrike">
                <a:solidFill>
                  <a:srgbClr val="0033cc"/>
                </a:solidFill>
                <a:latin typeface="Arial"/>
              </a:rPr>
              <a:t>Comentários Fina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572000"/>
            <a:ext cx="78818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Ações de fiscaliz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Alternativa para o SCD (CP em anális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Wi-Fi pode oferecer serviços comparáveis aos futuros serviços 3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420840" y="5538960"/>
          <a:ext cx="252360" cy="2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840" y="5538960"/>
                    <a:ext cx="2523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419040" y="5081760"/>
          <a:ext cx="252360" cy="25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040" y="5081760"/>
                    <a:ext cx="2523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419040" y="4700520"/>
          <a:ext cx="252360" cy="25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040" y="4700520"/>
                    <a:ext cx="2523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990720" y="1089000"/>
            <a:ext cx="7391160" cy="45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ência Nacional de Telecomunicações Ana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erintendência de Radiofreqüência e Fiscalização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rência Geral de Certificação e Engenharia do Espectro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F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rência de Engenharia do Espectro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FC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anatel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848720" y="5900760"/>
          <a:ext cx="12952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5900760"/>
                    <a:ext cx="12952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88560"/>
            <a:ext cx="2133720" cy="673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d5f0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Sumár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819920" cy="37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33cc"/>
                </a:solidFill>
                <a:latin typeface="Arial"/>
              </a:rPr>
              <a:t>Regulamentação aplicá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Características/Evolução dos padr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1" lang="pt-PT" sz="3200" spc="-1" strike="noStrike">
                <a:solidFill>
                  <a:srgbClr val="0033cc"/>
                </a:solidFill>
                <a:latin typeface="Arial"/>
              </a:rPr>
              <a:t>esultados da</a:t>
            </a: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 WRC –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pt-PT" sz="3200" spc="-1" strike="noStrike">
                <a:solidFill>
                  <a:srgbClr val="0033cc"/>
                </a:solidFill>
                <a:latin typeface="Arial"/>
              </a:rPr>
              <a:t>lterações da</a:t>
            </a: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 r</a:t>
            </a:r>
            <a:r>
              <a:rPr b="1" lang="pt-PT" sz="3200" spc="-1" strike="noStrike">
                <a:solidFill>
                  <a:srgbClr val="0033cc"/>
                </a:solidFill>
                <a:latin typeface="Arial"/>
              </a:rPr>
              <a:t>egulamen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33cc"/>
                </a:solidFill>
                <a:latin typeface="Arial"/>
              </a:rPr>
              <a:t>Comentários fi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1880" y="1890720"/>
            <a:ext cx="252360" cy="26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457200" y="2627280"/>
          <a:ext cx="252360" cy="26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627280"/>
                    <a:ext cx="25236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61880" y="3359160"/>
            <a:ext cx="252360" cy="27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461880" y="4079880"/>
          <a:ext cx="252360" cy="26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1880" y="4079880"/>
                    <a:ext cx="25236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61880" y="4813200"/>
          <a:ext cx="252360" cy="26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1880" y="4813200"/>
                    <a:ext cx="252360" cy="2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93120" y="88920"/>
            <a:ext cx="635436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Regulamentação aplicável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4920" y="1593720"/>
            <a:ext cx="8534160" cy="4471200"/>
            <a:chOff x="304920" y="1593720"/>
            <a:chExt cx="8534160" cy="4471200"/>
          </a:xfrm>
        </p:grpSpPr>
        <p:sp>
          <p:nvSpPr>
            <p:cNvPr id="75" name=""/>
            <p:cNvSpPr/>
            <p:nvPr/>
          </p:nvSpPr>
          <p:spPr>
            <a:xfrm>
              <a:off x="609480" y="1593720"/>
              <a:ext cx="8229600" cy="44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29196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lang="pt-BR" sz="2800" spc="-1" strike="noStrike">
                  <a:solidFill>
                    <a:srgbClr val="0033cc"/>
                  </a:solidFill>
                  <a:latin typeface="Arial"/>
                </a:rPr>
                <a:t>Lei nº 9.472 - Lei Geral das Telecomunicações (LGT):</a:t>
              </a:r>
              <a:r>
                <a:rPr b="1" i="1" lang="pt-BR" sz="2800" spc="-1" strike="noStrike">
                  <a:solidFill>
                    <a:srgbClr val="0033cc"/>
                  </a:solidFill>
                  <a:latin typeface="Arial"/>
                </a:rPr>
                <a:t>   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500"/>
                </a:spcBef>
                <a:buClr>
                  <a:srgbClr val="0033cc"/>
                </a:buClr>
                <a:buFont typeface="Arial"/>
                <a:buChar char="-"/>
                <a:tabLst>
                  <a:tab algn="l" pos="29196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  </a:t>
              </a: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Art.163, § 2º, inciso I: Estabelece que os equipamentos de radiação restrita definidos pela Agência, independerão de outorga de uso de radiofreqüênci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30000"/>
                </a:lnSpc>
                <a:spcBef>
                  <a:spcPts val="1500"/>
                </a:spcBef>
                <a:tabLst>
                  <a:tab algn="l" pos="0"/>
                  <a:tab algn="l" pos="29196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749"/>
                </a:spcBef>
                <a:tabLst>
                  <a:tab algn="l" pos="0"/>
                  <a:tab algn="l" pos="29196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lang="pt-BR" sz="2800" spc="-1" strike="noStrike">
                  <a:solidFill>
                    <a:srgbClr val="0033cc"/>
                  </a:solidFill>
                  <a:latin typeface="Arial"/>
                </a:rPr>
                <a:t>Res. nº 365, de 10/05/2004, da Anatel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500"/>
                </a:spcBef>
                <a:buClr>
                  <a:srgbClr val="0033cc"/>
                </a:buClr>
                <a:buFont typeface="Arial"/>
                <a:buChar char="-"/>
                <a:tabLst>
                  <a:tab algn="l" pos="29196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i="1" lang="pt-BR" sz="24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Regulamento sobre Equipamentos de Radiocomunicação de Radiação Restrit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304920" y="1727280"/>
              <a:ext cx="257040" cy="3263760"/>
              <a:chOff x="304920" y="1727280"/>
              <a:chExt cx="257040" cy="3263760"/>
            </a:xfrm>
          </p:grpSpPr>
          <p:graphicFrame>
            <p:nvGraphicFramePr>
              <p:cNvPr id="77" name=""/>
              <p:cNvGraphicFramePr/>
              <p:nvPr/>
            </p:nvGraphicFramePr>
            <p:xfrm>
              <a:off x="309600" y="1727280"/>
              <a:ext cx="252360" cy="268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09600" y="1727280"/>
                        <a:ext cx="252360" cy="268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9" name=""/>
              <p:cNvGraphicFramePr/>
              <p:nvPr/>
            </p:nvGraphicFramePr>
            <p:xfrm>
              <a:off x="304920" y="4722840"/>
              <a:ext cx="252360" cy="268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04920" y="4722840"/>
                        <a:ext cx="252360" cy="268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ransition spd="slow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95280" y="88920"/>
            <a:ext cx="238284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Conceit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09600" y="1981080"/>
            <a:ext cx="8300880" cy="3188520"/>
            <a:chOff x="309600" y="1981080"/>
            <a:chExt cx="8300880" cy="3188520"/>
          </a:xfrm>
        </p:grpSpPr>
        <p:sp>
          <p:nvSpPr>
            <p:cNvPr id="83" name=""/>
            <p:cNvSpPr/>
            <p:nvPr/>
          </p:nvSpPr>
          <p:spPr>
            <a:xfrm>
              <a:off x="609480" y="1981080"/>
              <a:ext cx="8001000" cy="31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Radiação Restri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Arial"/>
                </a:rPr>
                <a:t>- Termo genérico aplicado a equipamento que utilize radiofreqüência em que a emissão produza campo eletromagnético com intensidade dentro de limites estabelecidos na Regulamentação específica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33cc"/>
                  </a:solidFill>
                  <a:latin typeface="Arial"/>
                </a:rPr>
                <a:t>(Resolução nº 365)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4" name=""/>
            <p:cNvGraphicFramePr/>
            <p:nvPr/>
          </p:nvGraphicFramePr>
          <p:xfrm>
            <a:off x="309600" y="2119320"/>
            <a:ext cx="252360" cy="26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9600" y="2119320"/>
                      <a:ext cx="25236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6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93480" y="88920"/>
            <a:ext cx="613656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Principais característica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04920" y="1905120"/>
            <a:ext cx="8534160" cy="3972240"/>
            <a:chOff x="304920" y="1905120"/>
            <a:chExt cx="8534160" cy="3972240"/>
          </a:xfrm>
        </p:grpSpPr>
        <p:sp>
          <p:nvSpPr>
            <p:cNvPr id="89" name=""/>
            <p:cNvSpPr/>
            <p:nvPr/>
          </p:nvSpPr>
          <p:spPr>
            <a:xfrm>
              <a:off x="609480" y="1905120"/>
              <a:ext cx="8229600" cy="397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Estações isentas de licença para instalação e funcionamento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Não necessitam de autorização para uso de radiofreqüências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Operam em caráter secundário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Devem ter certificado homologado pela Anatel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Caso sejam utilizados p/ prestação de serviço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- Resolução nº 73, de 25/11/1998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304920" y="1969920"/>
              <a:ext cx="257040" cy="3200400"/>
              <a:chOff x="304920" y="1969920"/>
              <a:chExt cx="257040" cy="3200400"/>
            </a:xfrm>
          </p:grpSpPr>
          <p:graphicFrame>
            <p:nvGraphicFramePr>
              <p:cNvPr id="91" name=""/>
              <p:cNvGraphicFramePr/>
              <p:nvPr/>
            </p:nvGraphicFramePr>
            <p:xfrm>
              <a:off x="309600" y="1969920"/>
              <a:ext cx="252360" cy="268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09600" y="1969920"/>
                        <a:ext cx="252360" cy="26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3" name=""/>
              <p:cNvGraphicFramePr/>
              <p:nvPr/>
            </p:nvGraphicFramePr>
            <p:xfrm>
              <a:off x="304920" y="2908440"/>
              <a:ext cx="252360" cy="268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04920" y="2908440"/>
                        <a:ext cx="252360" cy="268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5" name=""/>
              <p:cNvGraphicFramePr/>
              <p:nvPr/>
            </p:nvGraphicFramePr>
            <p:xfrm>
              <a:off x="304920" y="3824280"/>
              <a:ext cx="252360" cy="2682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04920" y="3824280"/>
                        <a:ext cx="252360" cy="268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7" name=""/>
              <p:cNvGraphicFramePr/>
              <p:nvPr/>
            </p:nvGraphicFramePr>
            <p:xfrm>
              <a:off x="304920" y="4368600"/>
              <a:ext cx="252360" cy="2685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9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04920" y="4368600"/>
                        <a:ext cx="252360" cy="26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9" name=""/>
              <p:cNvGraphicFramePr/>
              <p:nvPr/>
            </p:nvGraphicFramePr>
            <p:xfrm>
              <a:off x="304920" y="4902120"/>
              <a:ext cx="252360" cy="2682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0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04920" y="4902120"/>
                        <a:ext cx="252360" cy="268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01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96000" y="88920"/>
            <a:ext cx="275616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Visão ger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57200" y="1676520"/>
            <a:ext cx="2590920" cy="4038480"/>
            <a:chOff x="457200" y="1676520"/>
            <a:chExt cx="2590920" cy="4038480"/>
          </a:xfrm>
        </p:grpSpPr>
        <p:sp>
          <p:nvSpPr>
            <p:cNvPr id="104" name=""/>
            <p:cNvSpPr/>
            <p:nvPr/>
          </p:nvSpPr>
          <p:spPr>
            <a:xfrm>
              <a:off x="2819520" y="1676520"/>
              <a:ext cx="228600" cy="40384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2791080"/>
              <a:ext cx="23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Regulamento Anexo à Resolução     nº 36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124080" y="1752480"/>
            <a:ext cx="5791320" cy="3903840"/>
            <a:chOff x="3124080" y="1752480"/>
            <a:chExt cx="5791320" cy="3903840"/>
          </a:xfrm>
        </p:grpSpPr>
        <p:sp>
          <p:nvSpPr>
            <p:cNvPr id="107" name=""/>
            <p:cNvSpPr/>
            <p:nvPr/>
          </p:nvSpPr>
          <p:spPr>
            <a:xfrm>
              <a:off x="3124080" y="1752480"/>
              <a:ext cx="571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Limites Gerais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 – </a:t>
              </a:r>
              <a:r>
                <a:rPr b="0" lang="en-US" sz="1800" spc="-1" strike="noStrike" u="sng">
                  <a:solidFill>
                    <a:srgbClr val="0033cc"/>
                  </a:solidFill>
                  <a:uFillTx/>
                  <a:latin typeface="Arial"/>
                </a:rPr>
                <a:t>Independe da aplicaçã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24080" y="2361960"/>
              <a:ext cx="5791320" cy="32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Limites Específicos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 – </a:t>
              </a:r>
              <a:r>
                <a:rPr b="0" lang="pt-BR" sz="1800" spc="-1" strike="noStrike">
                  <a:solidFill>
                    <a:srgbClr val="0033cc"/>
                  </a:solidFill>
                  <a:latin typeface="Arial"/>
                </a:rPr>
                <a:t>Varia de acordo c/ a </a:t>
              </a:r>
              <a:r>
                <a:rPr b="0" lang="pt-BR" sz="18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pt-BR" sz="18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pt-BR" sz="18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pt-BR" sz="18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pt-BR" sz="1800" spc="-1" strike="noStrike">
                  <a:solidFill>
                    <a:srgbClr val="0033cc"/>
                  </a:solidFill>
                  <a:latin typeface="Arial"/>
                </a:rPr>
                <a:t>       aplicação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Ex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cc"/>
                  </a:solidFill>
                  <a:latin typeface="Webdings"/>
                  <a:ea typeface="Webdings"/>
                </a:rPr>
                <a:t>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Dispositivos de operação periódica, </a:t>
              </a:r>
              <a:r>
                <a:rPr b="0" lang="pt-BR" sz="2400" spc="-1" strike="noStrike">
                  <a:solidFill>
                    <a:srgbClr val="0033cc"/>
                  </a:solidFill>
                  <a:latin typeface="Webdings"/>
                  <a:ea typeface="Webdings"/>
                </a:rPr>
                <a:t>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Telemedição,   </a:t>
              </a:r>
              <a:r>
                <a:rPr b="0" lang="pt-BR" sz="2400" spc="-1" strike="noStrike">
                  <a:solidFill>
                    <a:srgbClr val="0033cc"/>
                  </a:solidFill>
                  <a:latin typeface="Webdings"/>
                  <a:ea typeface="Webdings"/>
                </a:rPr>
                <a:t>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Telecomando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cc"/>
                  </a:solidFill>
                  <a:latin typeface="Webdings"/>
                  <a:ea typeface="Webdings"/>
                </a:rPr>
                <a:t></a:t>
              </a:r>
              <a:r>
                <a:rPr b="0" lang="pt-BR" sz="2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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fone sem fio  </a:t>
              </a:r>
              <a:r>
                <a:rPr b="0" lang="pt-BR" sz="2400" spc="-1" strike="noStrike">
                  <a:solidFill>
                    <a:srgbClr val="0033cc"/>
                  </a:solidFill>
                  <a:latin typeface="Webdings"/>
                  <a:ea typeface="Webdings"/>
                </a:rPr>
                <a:t>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Telefone sem cordão  </a:t>
              </a:r>
              <a:r>
                <a:rPr b="0" lang="pt-BR" sz="2400" spc="-1" strike="noStrike">
                  <a:solidFill>
                    <a:srgbClr val="0033cc"/>
                  </a:solidFill>
                  <a:latin typeface="Webdings"/>
                  <a:ea typeface="Webdings"/>
                </a:rPr>
                <a:t>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Ramal sem fio de  CP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cc"/>
                  </a:solidFill>
                  <a:latin typeface="Webdings"/>
                  <a:ea typeface="Webdings"/>
                </a:rPr>
                <a:t>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Espalhamento espectr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cc"/>
                  </a:solidFill>
                  <a:latin typeface="Webdings"/>
                  <a:ea typeface="Webdings"/>
                </a:rPr>
                <a:t>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Identificação de veículos   </a:t>
              </a:r>
              <a:r>
                <a:rPr b="0" lang="pt-BR" sz="2400" spc="-1" strike="noStrike">
                  <a:solidFill>
                    <a:srgbClr val="0033cc"/>
                  </a:solidFill>
                  <a:latin typeface="Webdings"/>
                  <a:ea typeface="Webdings"/>
                </a:rPr>
                <a:t>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BS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309600" y="2589120"/>
            <a:ext cx="8605800" cy="3056400"/>
            <a:chOff x="309600" y="2589120"/>
            <a:chExt cx="8605800" cy="3056400"/>
          </a:xfrm>
        </p:grpSpPr>
        <p:sp>
          <p:nvSpPr>
            <p:cNvPr id="111" name=""/>
            <p:cNvSpPr/>
            <p:nvPr/>
          </p:nvSpPr>
          <p:spPr>
            <a:xfrm>
              <a:off x="625320" y="2589120"/>
              <a:ext cx="8290080" cy="30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2.4 GHz (OFDM e Espalhamento Espectral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Faixa de 5 GHz – Incluir faixas p/ RLA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70000"/>
                </a:lnSpc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DFS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TP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Alterações válidas para as três faixas: 900 MHz,          2,4 GHz e 5,7 GHz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2" name=""/>
            <p:cNvGraphicFramePr/>
            <p:nvPr/>
          </p:nvGraphicFramePr>
          <p:xfrm>
            <a:off x="309600" y="2678040"/>
            <a:ext cx="252360" cy="26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9600" y="2678040"/>
                      <a:ext cx="25236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09600" y="4900680"/>
            <a:ext cx="252360" cy="26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9600" y="4900680"/>
                      <a:ext cx="25236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"/>
            <p:cNvGraphicFramePr/>
            <p:nvPr/>
          </p:nvGraphicFramePr>
          <p:xfrm>
            <a:off x="309600" y="3427560"/>
            <a:ext cx="252360" cy="268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427560"/>
                      <a:ext cx="25236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8" name=""/>
          <p:cNvSpPr/>
          <p:nvPr/>
        </p:nvSpPr>
        <p:spPr>
          <a:xfrm>
            <a:off x="1294200" y="88920"/>
            <a:ext cx="651600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33cc"/>
                </a:solidFill>
                <a:latin typeface="Arial"/>
              </a:rPr>
              <a:t>Proposta</a:t>
            </a:r>
            <a:r>
              <a:rPr b="1" lang="pt-PT" sz="3800" spc="-1" strike="noStrike">
                <a:solidFill>
                  <a:srgbClr val="0033cc"/>
                </a:solidFill>
                <a:latin typeface="Arial"/>
              </a:rPr>
              <a:t> aprovada pelo C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65280" y="1219320"/>
            <a:ext cx="60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Resolução nº 365, de 10/05/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ublicada no D.O.U., de 13/05/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93480" y="88920"/>
            <a:ext cx="640944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SEÇÃO IX do Regulam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905120"/>
            <a:ext cx="7086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marL="457200" indent="-457200"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Espalhamento Espectr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- Seqüência Direta (S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- Salto em Freqüências (S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- Sistemas Híbridos – Combinação de SD &amp; S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OFDM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Outras Modulações Digit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360" y="1219320"/>
            <a:ext cx="82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ecnologias de Modula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4800600"/>
            <a:ext cx="8229600" cy="13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spAutoFit/>
          </a:bodyPr>
          <a:p>
            <a:pPr marL="457200" indent="-457200"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33cc"/>
                </a:solidFill>
                <a:latin typeface="Arial"/>
              </a:rPr>
              <a:t>- 902-907,5     MHz (4 </a:t>
            </a:r>
            <a:r>
              <a:rPr b="1" lang="pt-BR" sz="2200" spc="-1" strike="noStrike">
                <a:solidFill>
                  <a:srgbClr val="0033cc"/>
                </a:solidFill>
                <a:latin typeface="Arial"/>
                <a:ea typeface="Arial"/>
              </a:rPr>
              <a:t>W e.i.r.p.);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33cc"/>
                </a:solidFill>
                <a:latin typeface="Arial"/>
              </a:rPr>
              <a:t>- 915-928        MHz (4 </a:t>
            </a:r>
            <a:r>
              <a:rPr b="1" lang="pt-BR" sz="2200" spc="-1" strike="noStrike">
                <a:solidFill>
                  <a:srgbClr val="0033cc"/>
                </a:solidFill>
                <a:latin typeface="Arial"/>
                <a:ea typeface="Arial"/>
              </a:rPr>
              <a:t>W e.i.r.p.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33cc"/>
                </a:solidFill>
                <a:latin typeface="Arial"/>
              </a:rPr>
              <a:t>- 2400-2483,5 MHz (400 mW </a:t>
            </a:r>
            <a:r>
              <a:rPr b="1" lang="pt-BR" sz="2200" spc="-1" strike="noStrike">
                <a:solidFill>
                  <a:srgbClr val="0033cc"/>
                </a:solidFill>
                <a:latin typeface="Arial"/>
                <a:ea typeface="Arial"/>
              </a:rPr>
              <a:t>e.i.r.p.</a:t>
            </a:r>
            <a:r>
              <a:rPr b="1" lang="pt-BR" sz="2200" spc="-1" strike="noStrike">
                <a:solidFill>
                  <a:srgbClr val="0033cc"/>
                </a:solidFill>
                <a:latin typeface="Arial"/>
              </a:rPr>
              <a:t> ou 4 </a:t>
            </a:r>
            <a:r>
              <a:rPr b="1" lang="pt-BR" sz="2200" spc="-1" strike="noStrike">
                <a:solidFill>
                  <a:srgbClr val="0033cc"/>
                </a:solidFill>
                <a:latin typeface="Arial"/>
                <a:ea typeface="Arial"/>
              </a:rPr>
              <a:t>W e.i.r.p.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33cc"/>
                </a:solidFill>
                <a:latin typeface="Arial"/>
                <a:ea typeface="Arial"/>
              </a:rPr>
              <a:t>- 5725-5850    MHz (4 W e.i.r.p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8560" y="4114800"/>
            <a:ext cx="47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Faixas de freqüê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04920" y="1371600"/>
            <a:ext cx="304200" cy="3200040"/>
            <a:chOff x="304920" y="1371600"/>
            <a:chExt cx="304200" cy="3200040"/>
          </a:xfrm>
        </p:grpSpPr>
        <p:graphicFrame>
          <p:nvGraphicFramePr>
            <p:cNvPr id="127" name=""/>
            <p:cNvGraphicFramePr/>
            <p:nvPr/>
          </p:nvGraphicFramePr>
          <p:xfrm>
            <a:off x="310320" y="1371600"/>
            <a:ext cx="298800" cy="29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0320" y="1371600"/>
                      <a:ext cx="298800" cy="2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" name=""/>
            <p:cNvGraphicFramePr/>
            <p:nvPr/>
          </p:nvGraphicFramePr>
          <p:xfrm>
            <a:off x="304920" y="4279680"/>
            <a:ext cx="298800" cy="291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4279680"/>
                      <a:ext cx="29880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1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533520" y="2197080"/>
            <a:ext cx="8229240" cy="1181160"/>
            <a:chOff x="533520" y="2197080"/>
            <a:chExt cx="8229240" cy="1181160"/>
          </a:xfrm>
        </p:grpSpPr>
        <p:sp>
          <p:nvSpPr>
            <p:cNvPr id="133" name=""/>
            <p:cNvSpPr/>
            <p:nvPr/>
          </p:nvSpPr>
          <p:spPr>
            <a:xfrm>
              <a:off x="4687920" y="2201760"/>
              <a:ext cx="4074840" cy="115956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33cc"/>
                  </a:solidFill>
                  <a:latin typeface="Arial"/>
                </a:rPr>
                <a:t>Caso seja utilizada antena com ganho direcional superior a 6 dBi, a potência do transmissor deve ser reduzida da mesma quantidade em dB que o ganho direcional da antena exceder a 6 dBi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533520" y="2197080"/>
              <a:ext cx="3914280" cy="1181160"/>
              <a:chOff x="533520" y="2197080"/>
              <a:chExt cx="3914280" cy="1181160"/>
            </a:xfrm>
          </p:grpSpPr>
          <p:sp>
            <p:nvSpPr>
              <p:cNvPr id="135" name=""/>
              <p:cNvSpPr/>
              <p:nvPr/>
            </p:nvSpPr>
            <p:spPr>
              <a:xfrm>
                <a:off x="533520" y="2197080"/>
                <a:ext cx="3914280" cy="118116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Ptx          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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  1 W        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	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      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	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            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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4 W </a:t>
                </a:r>
                <a:r>
                  <a:rPr b="1" i="1" lang="pt-BR" sz="1400" spc="-1" strike="noStrike">
                    <a:solidFill>
                      <a:srgbClr val="0033cc"/>
                    </a:solidFill>
                    <a:latin typeface="Arial"/>
                  </a:rPr>
                  <a:t>e.i.r.p.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G </a:t>
                </a:r>
                <a:r>
                  <a:rPr b="1" lang="pt-BR" sz="1000" spc="-1" strike="noStrike">
                    <a:solidFill>
                      <a:srgbClr val="0033cc"/>
                    </a:solidFill>
                    <a:latin typeface="Arial"/>
                  </a:rPr>
                  <a:t>antena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   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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  6 dB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437200" y="2793960"/>
                <a:ext cx="4791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251080" y="2489040"/>
                <a:ext cx="79560" cy="609840"/>
              </a:xfrm>
              <a:custGeom>
                <a:avLst/>
                <a:gdLst>
                  <a:gd name="textAreaLeft" fmla="*/ 0 w 79560"/>
                  <a:gd name="textAreaRight" fmla="*/ 28800 w 79560"/>
                  <a:gd name="textAreaTop" fmla="*/ 15840 h 609840"/>
                  <a:gd name="textAreaBottom" fmla="*/ 594000 h 60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533520" y="3581280"/>
            <a:ext cx="8305560" cy="2286000"/>
            <a:chOff x="533520" y="3581280"/>
            <a:chExt cx="8305560" cy="2286000"/>
          </a:xfrm>
        </p:grpSpPr>
        <p:grpSp>
          <p:nvGrpSpPr>
            <p:cNvPr id="139" name=""/>
            <p:cNvGrpSpPr/>
            <p:nvPr/>
          </p:nvGrpSpPr>
          <p:grpSpPr>
            <a:xfrm>
              <a:off x="533520" y="4205520"/>
              <a:ext cx="8305560" cy="733320"/>
              <a:chOff x="533520" y="4205520"/>
              <a:chExt cx="8305560" cy="733320"/>
            </a:xfrm>
          </p:grpSpPr>
          <p:sp>
            <p:nvSpPr>
              <p:cNvPr id="140" name=""/>
              <p:cNvSpPr/>
              <p:nvPr/>
            </p:nvSpPr>
            <p:spPr>
              <a:xfrm>
                <a:off x="533520" y="4205520"/>
                <a:ext cx="8305560" cy="7333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2400-2483,5 MHz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ffffff"/>
                    </a:solidFill>
                    <a:latin typeface="Arial"/>
                  </a:rPr>
                  <a:t>Ponto-a-Ponto           Reduzir 1 dB no Tx para cada 3 dB que o Ganho da antena exceder a 6 dBi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905120" y="4681440"/>
                <a:ext cx="4572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533520" y="5105520"/>
              <a:ext cx="8305560" cy="761760"/>
              <a:chOff x="533520" y="5105520"/>
              <a:chExt cx="8305560" cy="761760"/>
            </a:xfrm>
          </p:grpSpPr>
          <p:sp>
            <p:nvSpPr>
              <p:cNvPr id="143" name=""/>
              <p:cNvSpPr/>
              <p:nvPr/>
            </p:nvSpPr>
            <p:spPr>
              <a:xfrm>
                <a:off x="533520" y="5105520"/>
                <a:ext cx="8305560" cy="76176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5725-5850 MHz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ffffff"/>
                    </a:solidFill>
                    <a:latin typeface="Arial"/>
                  </a:rPr>
                  <a:t>Ponto-a-Ponto           Ganho da antena pode ser &gt;  6 dBi, sem necessidade de reduzir a Ptx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05120" y="5595840"/>
                <a:ext cx="4572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209680" y="3581280"/>
              <a:ext cx="4800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33cc"/>
                  </a:solidFill>
                  <a:uFillTx/>
                  <a:latin typeface="Arial"/>
                </a:rPr>
                <a:t>Condições Específ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0360" y="1219320"/>
            <a:ext cx="82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Características – </a:t>
            </a:r>
            <a:r>
              <a:rPr b="1" lang="pt-BR" sz="2500" spc="-1" strike="noStrike">
                <a:solidFill>
                  <a:srgbClr val="0033cc"/>
                </a:solidFill>
                <a:latin typeface="Arial"/>
              </a:rPr>
              <a:t>900 MHz, 2,4 GHz e 5,7 GHz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11040" y="1371600"/>
          <a:ext cx="29844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1371600"/>
                    <a:ext cx="2984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293480" y="88920"/>
            <a:ext cx="640944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SEÇÃO IX do Regulam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7T13:21:17Z</dcterms:created>
  <dc:creator>Eliézer</dc:creator>
  <dc:description/>
  <dc:language>en-US</dc:language>
  <cp:lastModifiedBy>Abranet</cp:lastModifiedBy>
  <cp:lastPrinted>2003-12-11T18:17:29Z</cp:lastPrinted>
  <dcterms:modified xsi:type="dcterms:W3CDTF">2004-05-28T17:15:56Z</dcterms:modified>
  <cp:revision>535</cp:revision>
  <dc:subject>WI-Fi e RLAN 5GHz</dc:subject>
  <dc:title>Apresentação do PowerPoint</dc:title>
</cp:coreProperties>
</file>