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035000" y="71712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8584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516-1364-4176-B5F2-5D325A2D58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035000" y="71748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olução 305 (Regulamento Radiação Restrit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supressão da exigência “ganho de processamento”- só tem sentido para SS, na modulação digital nã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possibilitar o uso de equipamentos de alto desempenho e utilização da modulação digi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características técnicas (potência, ganho antenas, TPC, DFS) e restrições (aplicações p-p) inerentes às novas tecnologi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faixa 2,4 GHz – estações não licenciadas, restrições técnic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extensão das alterações para a faixa de 900 M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ddf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371600" y="1233360"/>
            <a:ext cx="6635520" cy="5315040"/>
            <a:chOff x="1371600" y="1233360"/>
            <a:chExt cx="6635520" cy="5315040"/>
          </a:xfrm>
        </p:grpSpPr>
        <p:sp>
          <p:nvSpPr>
            <p:cNvPr id="2" name=""/>
            <p:cNvSpPr/>
            <p:nvPr/>
          </p:nvSpPr>
          <p:spPr>
            <a:xfrm>
              <a:off x="1371600" y="3119400"/>
              <a:ext cx="2971800" cy="289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e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33400" y="1233360"/>
              <a:ext cx="6273720" cy="5315040"/>
            </a:xfrm>
            <a:custGeom>
              <a:avLst/>
              <a:gdLst/>
              <a:ahLst/>
              <a:rect l="l" t="t" r="r" b="b"/>
              <a:pathLst>
                <a:path w="3952" h="3348">
                  <a:moveTo>
                    <a:pt x="3278" y="3271"/>
                  </a:moveTo>
                  <a:cubicBezTo>
                    <a:pt x="3719" y="3258"/>
                    <a:pt x="3555" y="3269"/>
                    <a:pt x="3641" y="3190"/>
                  </a:cubicBezTo>
                  <a:cubicBezTo>
                    <a:pt x="3727" y="3111"/>
                    <a:pt x="3743" y="2985"/>
                    <a:pt x="3792" y="2800"/>
                  </a:cubicBezTo>
                  <a:cubicBezTo>
                    <a:pt x="3841" y="2615"/>
                    <a:pt x="3920" y="2328"/>
                    <a:pt x="3936" y="2080"/>
                  </a:cubicBezTo>
                  <a:cubicBezTo>
                    <a:pt x="3952" y="1832"/>
                    <a:pt x="3936" y="1536"/>
                    <a:pt x="3888" y="1312"/>
                  </a:cubicBezTo>
                  <a:cubicBezTo>
                    <a:pt x="3840" y="1088"/>
                    <a:pt x="3760" y="904"/>
                    <a:pt x="3648" y="736"/>
                  </a:cubicBezTo>
                  <a:cubicBezTo>
                    <a:pt x="3536" y="568"/>
                    <a:pt x="3384" y="416"/>
                    <a:pt x="3216" y="304"/>
                  </a:cubicBezTo>
                  <a:cubicBezTo>
                    <a:pt x="3048" y="192"/>
                    <a:pt x="2872" y="112"/>
                    <a:pt x="2640" y="64"/>
                  </a:cubicBezTo>
                  <a:cubicBezTo>
                    <a:pt x="2408" y="16"/>
                    <a:pt x="2080" y="0"/>
                    <a:pt x="1824" y="16"/>
                  </a:cubicBezTo>
                  <a:cubicBezTo>
                    <a:pt x="1568" y="32"/>
                    <a:pt x="1328" y="88"/>
                    <a:pt x="1104" y="160"/>
                  </a:cubicBezTo>
                  <a:cubicBezTo>
                    <a:pt x="880" y="232"/>
                    <a:pt x="664" y="328"/>
                    <a:pt x="480" y="448"/>
                  </a:cubicBezTo>
                  <a:cubicBezTo>
                    <a:pt x="296" y="568"/>
                    <a:pt x="0" y="848"/>
                    <a:pt x="0" y="880"/>
                  </a:cubicBezTo>
                  <a:cubicBezTo>
                    <a:pt x="0" y="912"/>
                    <a:pt x="320" y="712"/>
                    <a:pt x="480" y="640"/>
                  </a:cubicBezTo>
                  <a:cubicBezTo>
                    <a:pt x="640" y="568"/>
                    <a:pt x="792" y="488"/>
                    <a:pt x="960" y="448"/>
                  </a:cubicBezTo>
                  <a:cubicBezTo>
                    <a:pt x="1128" y="408"/>
                    <a:pt x="1312" y="392"/>
                    <a:pt x="1488" y="400"/>
                  </a:cubicBezTo>
                  <a:cubicBezTo>
                    <a:pt x="1664" y="408"/>
                    <a:pt x="1872" y="440"/>
                    <a:pt x="2016" y="496"/>
                  </a:cubicBezTo>
                  <a:cubicBezTo>
                    <a:pt x="2160" y="552"/>
                    <a:pt x="2280" y="640"/>
                    <a:pt x="2352" y="736"/>
                  </a:cubicBezTo>
                  <a:cubicBezTo>
                    <a:pt x="2424" y="832"/>
                    <a:pt x="2448" y="936"/>
                    <a:pt x="2448" y="1072"/>
                  </a:cubicBezTo>
                  <a:cubicBezTo>
                    <a:pt x="2448" y="1208"/>
                    <a:pt x="2400" y="1400"/>
                    <a:pt x="2352" y="1552"/>
                  </a:cubicBezTo>
                  <a:cubicBezTo>
                    <a:pt x="2304" y="1704"/>
                    <a:pt x="2256" y="1824"/>
                    <a:pt x="2160" y="1984"/>
                  </a:cubicBezTo>
                  <a:cubicBezTo>
                    <a:pt x="2064" y="2144"/>
                    <a:pt x="1968" y="2304"/>
                    <a:pt x="1776" y="2512"/>
                  </a:cubicBezTo>
                  <a:cubicBezTo>
                    <a:pt x="1584" y="2720"/>
                    <a:pt x="1130" y="3116"/>
                    <a:pt x="1008" y="3232"/>
                  </a:cubicBezTo>
                  <a:cubicBezTo>
                    <a:pt x="886" y="3348"/>
                    <a:pt x="1046" y="3201"/>
                    <a:pt x="1041" y="3206"/>
                  </a:cubicBezTo>
                  <a:cubicBezTo>
                    <a:pt x="1036" y="3211"/>
                    <a:pt x="990" y="3255"/>
                    <a:pt x="978" y="3264"/>
                  </a:cubicBezTo>
                  <a:cubicBezTo>
                    <a:pt x="966" y="3273"/>
                    <a:pt x="960" y="3258"/>
                    <a:pt x="966" y="3258"/>
                  </a:cubicBezTo>
                  <a:cubicBezTo>
                    <a:pt x="972" y="3258"/>
                    <a:pt x="1011" y="3264"/>
                    <a:pt x="1014" y="3266"/>
                  </a:cubicBezTo>
                  <a:cubicBezTo>
                    <a:pt x="1017" y="3268"/>
                    <a:pt x="901" y="3271"/>
                    <a:pt x="984" y="3272"/>
                  </a:cubicBezTo>
                  <a:cubicBezTo>
                    <a:pt x="1067" y="3273"/>
                    <a:pt x="1498" y="3276"/>
                    <a:pt x="1511" y="3275"/>
                  </a:cubicBezTo>
                  <a:cubicBezTo>
                    <a:pt x="1524" y="3274"/>
                    <a:pt x="1059" y="3269"/>
                    <a:pt x="1064" y="3269"/>
                  </a:cubicBezTo>
                  <a:cubicBezTo>
                    <a:pt x="1069" y="3269"/>
                    <a:pt x="1553" y="3275"/>
                    <a:pt x="1542" y="3275"/>
                  </a:cubicBezTo>
                  <a:cubicBezTo>
                    <a:pt x="1531" y="3275"/>
                    <a:pt x="707" y="3272"/>
                    <a:pt x="996" y="3271"/>
                  </a:cubicBezTo>
                  <a:cubicBezTo>
                    <a:pt x="1285" y="3270"/>
                    <a:pt x="2837" y="3296"/>
                    <a:pt x="3278" y="3271"/>
                  </a:cubicBez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876240"/>
            <a:ext cx="9145440" cy="5537160"/>
            <a:chOff x="0" y="876240"/>
            <a:chExt cx="9145440" cy="5537160"/>
          </a:xfrm>
        </p:grpSpPr>
        <p:grpSp>
          <p:nvGrpSpPr>
            <p:cNvPr id="5" name=""/>
            <p:cNvGrpSpPr/>
            <p:nvPr/>
          </p:nvGrpSpPr>
          <p:grpSpPr>
            <a:xfrm>
              <a:off x="1228680" y="876240"/>
              <a:ext cx="7916760" cy="38160"/>
              <a:chOff x="1228680" y="876240"/>
              <a:chExt cx="7916760" cy="38160"/>
            </a:xfrm>
          </p:grpSpPr>
          <p:sp>
            <p:nvSpPr>
              <p:cNvPr id="6" name=""/>
              <p:cNvSpPr/>
              <p:nvPr/>
            </p:nvSpPr>
            <p:spPr>
              <a:xfrm>
                <a:off x="1228680" y="876240"/>
                <a:ext cx="79167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28680" y="914400"/>
                <a:ext cx="7916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6375240"/>
              <a:ext cx="9144000" cy="38160"/>
              <a:chOff x="0" y="6375240"/>
              <a:chExt cx="9144000" cy="38160"/>
            </a:xfrm>
          </p:grpSpPr>
          <p:sp>
            <p:nvSpPr>
              <p:cNvPr id="9" name=""/>
              <p:cNvSpPr/>
              <p:nvPr/>
            </p:nvSpPr>
            <p:spPr>
              <a:xfrm>
                <a:off x="0" y="6375240"/>
                <a:ext cx="91440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413400"/>
                <a:ext cx="91440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logobord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7984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6435720"/>
            <a:ext cx="9144000" cy="420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  <a:ea typeface="Tahoma"/>
              </a:rPr>
              <a:t>Wireless Brasil - Regula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atel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24120"/>
            <a:ext cx="7696080" cy="86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Tahoma"/>
                <a:ea typeface="Tahoma"/>
              </a:rPr>
              <a:t>Wireless Brasil - </a:t>
            </a:r>
            <a:r>
              <a:rPr b="1" lang="pt-BR" sz="3200" spc="-1" strike="noStrike">
                <a:solidFill>
                  <a:srgbClr val="0033cc"/>
                </a:solidFill>
                <a:latin typeface="Tahoma"/>
                <a:ea typeface="Tahoma"/>
              </a:rPr>
              <a:t>Regulamentação</a:t>
            </a: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São Paulo, 27 de mai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7692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.º Eliézer Alves Teixeira, M.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gência Nacional de Telecomun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ADIAÇÃO RESTRITA</a:t>
            </a:r>
            <a:br>
              <a:rPr sz="4000"/>
            </a:br>
            <a:br>
              <a:rPr sz="4000"/>
            </a:b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Regulamentação Aplicada  a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istema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Não Licenciado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Acesso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em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Fio</a:t>
            </a:r>
            <a:r>
              <a:rPr b="1" lang="pt-BR" sz="40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2,4 GH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20" y="2362320"/>
            <a:ext cx="7613280" cy="2862360"/>
            <a:chOff x="762120" y="2362320"/>
            <a:chExt cx="7613280" cy="2862360"/>
          </a:xfrm>
        </p:grpSpPr>
        <p:grpSp>
          <p:nvGrpSpPr>
            <p:cNvPr id="157" name=""/>
            <p:cNvGrpSpPr/>
            <p:nvPr/>
          </p:nvGrpSpPr>
          <p:grpSpPr>
            <a:xfrm>
              <a:off x="762120" y="2362320"/>
              <a:ext cx="3117240" cy="395280"/>
              <a:chOff x="762120" y="2362320"/>
              <a:chExt cx="3117240" cy="39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762120" y="2362320"/>
                <a:ext cx="311724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762120" y="2362320"/>
                <a:ext cx="3116880" cy="395280"/>
                <a:chOff x="762120" y="2362320"/>
                <a:chExt cx="3116880" cy="395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29800" y="2362320"/>
                  <a:ext cx="29815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ulamento Aplicá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62120" y="2362320"/>
                  <a:ext cx="31168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3879720" y="2362320"/>
              <a:ext cx="1959120" cy="395280"/>
              <a:chOff x="3879720" y="2362320"/>
              <a:chExt cx="1959120" cy="395280"/>
            </a:xfrm>
          </p:grpSpPr>
          <p:sp>
            <p:nvSpPr>
              <p:cNvPr id="163" name=""/>
              <p:cNvSpPr/>
              <p:nvPr/>
            </p:nvSpPr>
            <p:spPr>
              <a:xfrm>
                <a:off x="3879720" y="2362320"/>
                <a:ext cx="195912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879720" y="2362320"/>
                <a:ext cx="1959120" cy="395280"/>
                <a:chOff x="3879720" y="2362320"/>
                <a:chExt cx="1959120" cy="395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922560" y="2362320"/>
                  <a:ext cx="187344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.I.R.P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879720" y="2362320"/>
                  <a:ext cx="19591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5838840" y="2362320"/>
              <a:ext cx="2536560" cy="395280"/>
              <a:chOff x="5838840" y="2362320"/>
              <a:chExt cx="2536560" cy="395280"/>
            </a:xfrm>
          </p:grpSpPr>
          <p:sp>
            <p:nvSpPr>
              <p:cNvPr id="168" name=""/>
              <p:cNvSpPr/>
              <p:nvPr/>
            </p:nvSpPr>
            <p:spPr>
              <a:xfrm>
                <a:off x="5838840" y="2362320"/>
                <a:ext cx="253656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838840" y="2362320"/>
                <a:ext cx="2536200" cy="395280"/>
                <a:chOff x="5838840" y="2362320"/>
                <a:chExt cx="2536200" cy="3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94280" y="2362320"/>
                  <a:ext cx="24256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pul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38840" y="2362320"/>
                  <a:ext cx="253620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62120" y="2757600"/>
              <a:ext cx="3117240" cy="622080"/>
              <a:chOff x="762120" y="2757600"/>
              <a:chExt cx="3117240" cy="622080"/>
            </a:xfrm>
          </p:grpSpPr>
          <p:sp>
            <p:nvSpPr>
              <p:cNvPr id="173" name=""/>
              <p:cNvSpPr/>
              <p:nvPr/>
            </p:nvSpPr>
            <p:spPr>
              <a:xfrm>
                <a:off x="829800" y="2757600"/>
                <a:ext cx="298188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ulamento Específico p/ a Faixa de 2400-2483,5 MH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2120" y="2757600"/>
                <a:ext cx="311724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879720" y="2757600"/>
              <a:ext cx="1959120" cy="622080"/>
              <a:chOff x="3879720" y="2757600"/>
              <a:chExt cx="1959120" cy="622080"/>
            </a:xfrm>
          </p:grpSpPr>
          <p:sp>
            <p:nvSpPr>
              <p:cNvPr id="176" name=""/>
              <p:cNvSpPr/>
              <p:nvPr/>
            </p:nvSpPr>
            <p:spPr>
              <a:xfrm>
                <a:off x="3922560" y="2757600"/>
                <a:ext cx="18734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9720" y="2757600"/>
                <a:ext cx="195912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38840" y="2757600"/>
              <a:ext cx="2536560" cy="622080"/>
              <a:chOff x="5838840" y="2757600"/>
              <a:chExt cx="2536560" cy="622080"/>
            </a:xfrm>
          </p:grpSpPr>
          <p:sp>
            <p:nvSpPr>
              <p:cNvPr id="179" name=""/>
              <p:cNvSpPr/>
              <p:nvPr/>
            </p:nvSpPr>
            <p:spPr>
              <a:xfrm>
                <a:off x="5894280" y="2757600"/>
                <a:ext cx="24260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38840" y="2757600"/>
                <a:ext cx="253656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62120" y="3379680"/>
              <a:ext cx="3117240" cy="397080"/>
              <a:chOff x="762120" y="3379680"/>
              <a:chExt cx="3117240" cy="39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829800" y="3379680"/>
                <a:ext cx="2981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2120" y="3379680"/>
                <a:ext cx="311724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879720" y="3379680"/>
              <a:ext cx="1959120" cy="397080"/>
              <a:chOff x="3879720" y="3379680"/>
              <a:chExt cx="1959120" cy="397080"/>
            </a:xfrm>
          </p:grpSpPr>
          <p:sp>
            <p:nvSpPr>
              <p:cNvPr id="185" name=""/>
              <p:cNvSpPr/>
              <p:nvPr/>
            </p:nvSpPr>
            <p:spPr>
              <a:xfrm>
                <a:off x="3922560" y="3379680"/>
                <a:ext cx="1873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79720" y="3379680"/>
                <a:ext cx="195912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838840" y="3379680"/>
              <a:ext cx="2536560" cy="397080"/>
              <a:chOff x="5838840" y="3379680"/>
              <a:chExt cx="2536560" cy="397080"/>
            </a:xfrm>
          </p:grpSpPr>
          <p:sp>
            <p:nvSpPr>
              <p:cNvPr id="188" name=""/>
              <p:cNvSpPr/>
              <p:nvPr/>
            </p:nvSpPr>
            <p:spPr>
              <a:xfrm>
                <a:off x="5894280" y="3379680"/>
                <a:ext cx="24260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8840" y="3379680"/>
                <a:ext cx="253656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62120" y="3776760"/>
              <a:ext cx="3117240" cy="395280"/>
              <a:chOff x="762120" y="3776760"/>
              <a:chExt cx="3117240" cy="395280"/>
            </a:xfrm>
          </p:grpSpPr>
          <p:sp>
            <p:nvSpPr>
              <p:cNvPr id="191" name=""/>
              <p:cNvSpPr/>
              <p:nvPr/>
            </p:nvSpPr>
            <p:spPr>
              <a:xfrm>
                <a:off x="829800" y="377676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377676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879720" y="3776760"/>
              <a:ext cx="1959120" cy="395280"/>
              <a:chOff x="3879720" y="3776760"/>
              <a:chExt cx="1959120" cy="395280"/>
            </a:xfrm>
          </p:grpSpPr>
          <p:sp>
            <p:nvSpPr>
              <p:cNvPr id="194" name=""/>
              <p:cNvSpPr/>
              <p:nvPr/>
            </p:nvSpPr>
            <p:spPr>
              <a:xfrm>
                <a:off x="3922560" y="377676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9720" y="377676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38840" y="3776760"/>
              <a:ext cx="2536560" cy="395280"/>
              <a:chOff x="5838840" y="3776760"/>
              <a:chExt cx="2536560" cy="3952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94280" y="377676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38840" y="377676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62120" y="4172040"/>
              <a:ext cx="3117240" cy="395280"/>
              <a:chOff x="762120" y="4172040"/>
              <a:chExt cx="3117240" cy="395280"/>
            </a:xfrm>
          </p:grpSpPr>
          <p:sp>
            <p:nvSpPr>
              <p:cNvPr id="200" name=""/>
              <p:cNvSpPr/>
              <p:nvPr/>
            </p:nvSpPr>
            <p:spPr>
              <a:xfrm>
                <a:off x="829800" y="417204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2120" y="417204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79720" y="4172040"/>
              <a:ext cx="1959120" cy="395280"/>
              <a:chOff x="3879720" y="4172040"/>
              <a:chExt cx="1959120" cy="395280"/>
            </a:xfrm>
          </p:grpSpPr>
          <p:sp>
            <p:nvSpPr>
              <p:cNvPr id="203" name=""/>
              <p:cNvSpPr/>
              <p:nvPr/>
            </p:nvSpPr>
            <p:spPr>
              <a:xfrm>
                <a:off x="3922560" y="417204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79720" y="417204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838840" y="4172040"/>
              <a:ext cx="2536560" cy="395280"/>
              <a:chOff x="5838840" y="4172040"/>
              <a:chExt cx="2536560" cy="395280"/>
            </a:xfrm>
          </p:grpSpPr>
          <p:sp>
            <p:nvSpPr>
              <p:cNvPr id="206" name=""/>
              <p:cNvSpPr/>
              <p:nvPr/>
            </p:nvSpPr>
            <p:spPr>
              <a:xfrm>
                <a:off x="5894280" y="417204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38840" y="417204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822320" y="4948200"/>
              <a:ext cx="640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RRR: Regulamento sobre Equipamentos de Radiocomunicação de Radiação  Restr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93840" y="88920"/>
            <a:ext cx="6275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360" y="1371600"/>
            <a:ext cx="82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stema de Acesso sem Fio em Banda Larga para Rede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8560" y="23922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1040" y="153684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5368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2557440"/>
          <a:ext cx="29844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574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731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198960"/>
            <a:ext cx="7543440" cy="2516040"/>
            <a:chOff x="838080" y="3198960"/>
            <a:chExt cx="7543440" cy="2516040"/>
          </a:xfrm>
        </p:grpSpPr>
        <p:grpSp>
          <p:nvGrpSpPr>
            <p:cNvPr id="219" name=""/>
            <p:cNvGrpSpPr/>
            <p:nvPr/>
          </p:nvGrpSpPr>
          <p:grpSpPr>
            <a:xfrm>
              <a:off x="843840" y="3201480"/>
              <a:ext cx="7530480" cy="2509920"/>
              <a:chOff x="843840" y="3201480"/>
              <a:chExt cx="7530480" cy="250992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43840" y="3201480"/>
                <a:ext cx="1644120" cy="1004040"/>
                <a:chOff x="843840" y="3201480"/>
                <a:chExt cx="1644120" cy="1004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43840" y="3201480"/>
                  <a:ext cx="16441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843840" y="3201480"/>
                  <a:ext cx="1643760" cy="1004040"/>
                  <a:chOff x="843840" y="3201480"/>
                  <a:chExt cx="1643760" cy="1004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901440" y="3201480"/>
                    <a:ext cx="15278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Faixas de Radiofreqüênci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43840" y="3201480"/>
                    <a:ext cx="16437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2488320" y="3201480"/>
                <a:ext cx="1530000" cy="501840"/>
                <a:chOff x="2488320" y="3201480"/>
                <a:chExt cx="1530000" cy="5018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488320" y="3201480"/>
                  <a:ext cx="1530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2488320" y="3201480"/>
                  <a:ext cx="1529640" cy="501840"/>
                  <a:chOff x="2488320" y="3201480"/>
                  <a:chExt cx="1529640" cy="5018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2545920" y="3201480"/>
                    <a:ext cx="14140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EXIGÊNC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8320" y="3201480"/>
                    <a:ext cx="1529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4019040" y="3201480"/>
                <a:ext cx="2235600" cy="501840"/>
                <a:chOff x="4019040" y="3201480"/>
                <a:chExt cx="2235600" cy="501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019040" y="3201480"/>
                  <a:ext cx="2235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19040" y="3201480"/>
                  <a:ext cx="2235240" cy="501840"/>
                  <a:chOff x="4019040" y="3201480"/>
                  <a:chExt cx="2235240" cy="5018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077000" y="3201480"/>
                    <a:ext cx="211860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019040" y="3201480"/>
                    <a:ext cx="2235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6255000" y="3201480"/>
                <a:ext cx="2119320" cy="1004040"/>
                <a:chOff x="6255000" y="3201480"/>
                <a:chExt cx="2119320" cy="1004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55000" y="3201480"/>
                  <a:ext cx="21193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6255000" y="3201480"/>
                  <a:ext cx="2118960" cy="1004040"/>
                  <a:chOff x="6255000" y="3201480"/>
                  <a:chExt cx="2118960" cy="10040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6312600" y="3201480"/>
                    <a:ext cx="20030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ensidade Espectral de 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255000" y="3201480"/>
                    <a:ext cx="21189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2488320" y="3703320"/>
                <a:ext cx="696600" cy="501840"/>
                <a:chOff x="2488320" y="3703320"/>
                <a:chExt cx="696600" cy="501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488320" y="3703320"/>
                  <a:ext cx="696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2488320" y="3703320"/>
                  <a:ext cx="696240" cy="501840"/>
                  <a:chOff x="2488320" y="3703320"/>
                  <a:chExt cx="696240" cy="5018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45920" y="3703320"/>
                    <a:ext cx="5803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F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488320" y="3703320"/>
                    <a:ext cx="696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185640" y="3703320"/>
                <a:ext cx="833040" cy="501840"/>
                <a:chOff x="3185640" y="3703320"/>
                <a:chExt cx="833040" cy="501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185640" y="3703320"/>
                  <a:ext cx="83304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185640" y="3703320"/>
                  <a:ext cx="832680" cy="501840"/>
                  <a:chOff x="3185640" y="3703320"/>
                  <a:chExt cx="832680" cy="501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243240" y="3703320"/>
                    <a:ext cx="7171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85640" y="3703320"/>
                    <a:ext cx="83268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4019040" y="3703320"/>
                <a:ext cx="1134000" cy="501840"/>
                <a:chOff x="4019040" y="3703320"/>
                <a:chExt cx="1134000" cy="5018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019040" y="3703320"/>
                  <a:ext cx="1134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4019040" y="3703320"/>
                  <a:ext cx="1133640" cy="501840"/>
                  <a:chOff x="4019040" y="3703320"/>
                  <a:chExt cx="1133640" cy="5018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4077000" y="3703320"/>
                    <a:ext cx="10177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019040" y="3703320"/>
                    <a:ext cx="1133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5153400" y="3703320"/>
                <a:ext cx="1100880" cy="501840"/>
                <a:chOff x="5153400" y="3703320"/>
                <a:chExt cx="1100880" cy="5018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53400" y="3703320"/>
                  <a:ext cx="110088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153400" y="3703320"/>
                  <a:ext cx="1100520" cy="501840"/>
                  <a:chOff x="5153400" y="3703320"/>
                  <a:chExt cx="1100520" cy="501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211360" y="3703320"/>
                    <a:ext cx="9838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Se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153400" y="3703320"/>
                    <a:ext cx="110052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843840" y="4205520"/>
                <a:ext cx="1644120" cy="501840"/>
                <a:chOff x="843840" y="4205520"/>
                <a:chExt cx="1644120" cy="501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01440" y="420552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50-52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43840" y="420552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88320" y="4205520"/>
                <a:ext cx="696600" cy="501840"/>
                <a:chOff x="2488320" y="4205520"/>
                <a:chExt cx="696600" cy="501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45920" y="420552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88320" y="420552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185640" y="4205520"/>
                <a:ext cx="833040" cy="501840"/>
                <a:chOff x="3185640" y="4205520"/>
                <a:chExt cx="833040" cy="501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43240" y="420552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85640" y="420552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019040" y="4205520"/>
                <a:ext cx="1134000" cy="501840"/>
                <a:chOff x="4019040" y="4205520"/>
                <a:chExt cx="1134000" cy="501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77000" y="420552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040" y="420552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153400" y="4205520"/>
                <a:ext cx="1100880" cy="501840"/>
                <a:chOff x="5153400" y="4205520"/>
                <a:chExt cx="1100880" cy="5018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211360" y="420552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53400" y="420552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255000" y="4205520"/>
                <a:ext cx="2119320" cy="501840"/>
                <a:chOff x="6255000" y="4205520"/>
                <a:chExt cx="2119320" cy="5018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312600" y="420552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55000" y="420552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43840" y="4707360"/>
                <a:ext cx="1644120" cy="501840"/>
                <a:chOff x="843840" y="4707360"/>
                <a:chExt cx="1644120" cy="501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901440" y="47073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250-53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3840" y="47073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488320" y="4707360"/>
                <a:ext cx="696600" cy="501840"/>
                <a:chOff x="2488320" y="4707360"/>
                <a:chExt cx="696600" cy="501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45920" y="47073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88320" y="47073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185640" y="4707360"/>
                <a:ext cx="833040" cy="501840"/>
                <a:chOff x="3185640" y="4707360"/>
                <a:chExt cx="833040" cy="501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43240" y="47073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5640" y="47073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019040" y="4707360"/>
                <a:ext cx="1134000" cy="501840"/>
                <a:chOff x="4019040" y="4707360"/>
                <a:chExt cx="1134000" cy="501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077000" y="47073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19040" y="47073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153400" y="4707360"/>
                <a:ext cx="1100880" cy="501840"/>
                <a:chOff x="5153400" y="4707360"/>
                <a:chExt cx="1100880" cy="501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211360" y="47073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53400" y="47073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55000" y="4707360"/>
                <a:ext cx="2119320" cy="501840"/>
                <a:chOff x="6255000" y="4707360"/>
                <a:chExt cx="2119320" cy="501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312600" y="47073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255000" y="47073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43840" y="5209560"/>
                <a:ext cx="1644120" cy="501840"/>
                <a:chOff x="843840" y="5209560"/>
                <a:chExt cx="1644120" cy="501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901440" y="52095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470-5725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43840" y="52095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488320" y="5209560"/>
                <a:ext cx="696600" cy="501840"/>
                <a:chOff x="2488320" y="5209560"/>
                <a:chExt cx="696600" cy="501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5920" y="52095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88320" y="52095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185640" y="5209560"/>
                <a:ext cx="833040" cy="501840"/>
                <a:chOff x="3185640" y="5209560"/>
                <a:chExt cx="833040" cy="501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243240" y="52095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85640" y="52095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019040" y="5209560"/>
                <a:ext cx="1134000" cy="501840"/>
                <a:chOff x="4019040" y="5209560"/>
                <a:chExt cx="1134000" cy="501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077000" y="52095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19040" y="52095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153400" y="5209560"/>
                <a:ext cx="1100880" cy="501840"/>
                <a:chOff x="5153400" y="5209560"/>
                <a:chExt cx="1100880" cy="5018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211360" y="52095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153400" y="52095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55000" y="5209560"/>
                <a:ext cx="2119320" cy="501840"/>
                <a:chOff x="6255000" y="5209560"/>
                <a:chExt cx="2119320" cy="5018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12600" y="52095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55000" y="52095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838080" y="3198960"/>
              <a:ext cx="7543440" cy="251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487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979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2,4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113360"/>
            <a:ext cx="1143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5  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4560" y="2514600"/>
            <a:ext cx="6984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4113360"/>
            <a:ext cx="838080" cy="382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25146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LUETO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1981080"/>
            <a:ext cx="8380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1337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124080" y="213336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26668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057400"/>
            <a:ext cx="2781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1905120"/>
            <a:ext cx="685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648320"/>
            <a:ext cx="25146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HIPERLAN 2 – DFS E 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4114800"/>
            <a:ext cx="990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5257800"/>
            <a:ext cx="2514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6 A 54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19760" y="430992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5257800"/>
            <a:ext cx="209556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 A 11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971800"/>
            <a:ext cx="20955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HSS E DS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2971800"/>
            <a:ext cx="251460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OF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5486400"/>
            <a:ext cx="129528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3341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Evolução dos padrõ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8676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Resultados da WRC – 0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IXA DE 5GHZ, ATRIBUIÇÃO (REGIÕES 1, 2 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1800" y="1858680"/>
            <a:ext cx="9120960" cy="3884400"/>
            <a:chOff x="91800" y="1858680"/>
            <a:chExt cx="9120960" cy="3884400"/>
          </a:xfrm>
        </p:grpSpPr>
        <p:sp>
          <p:nvSpPr>
            <p:cNvPr id="340" name=""/>
            <p:cNvSpPr/>
            <p:nvPr/>
          </p:nvSpPr>
          <p:spPr>
            <a:xfrm flipH="1" flipV="1" rot="1804800">
              <a:off x="9597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1731000">
              <a:off x="2048040" y="1904040"/>
              <a:ext cx="3812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2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1452600">
              <a:off x="3170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3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1452600">
              <a:off x="4470480" y="1905120"/>
              <a:ext cx="401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1452600">
              <a:off x="484668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1452600">
              <a:off x="6370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5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452600">
              <a:off x="7742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6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452600">
              <a:off x="8656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7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7320" y="4267080"/>
              <a:ext cx="7772400" cy="609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7320" y="281628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7320" y="266688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2972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43720" y="5492520"/>
              <a:ext cx="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8680" y="2819160"/>
              <a:ext cx="11383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RLS, 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7320" y="2819160"/>
              <a:ext cx="1076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F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68800" y="2819160"/>
              <a:ext cx="12841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327560" y="3042360"/>
              <a:ext cx="837720" cy="39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RADIOLOC SE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7320" y="548640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43520" y="2819160"/>
              <a:ext cx="29718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MRNV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15320" y="2819160"/>
              <a:ext cx="914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AM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8680" y="3657600"/>
              <a:ext cx="113832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W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IXO REGIÃO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49680" y="3659040"/>
              <a:ext cx="19908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ESS/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57320" y="4267080"/>
              <a:ext cx="220968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43520" y="4267080"/>
              <a:ext cx="38862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NDO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67000" y="4876560"/>
              <a:ext cx="4648320" cy="6094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RADIOLOC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ARÁTER PRIMÁ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594600">
              <a:off x="92160" y="2931840"/>
              <a:ext cx="904680" cy="477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SITU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30600">
              <a:off x="104400" y="3828960"/>
              <a:ext cx="914400" cy="1172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WRC–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43520" y="5489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41720" y="26683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2630520"/>
              <a:ext cx="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87980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15320" y="269712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15320" y="54975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49680" y="5494320"/>
              <a:ext cx="180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68800" y="3657600"/>
              <a:ext cx="1284120" cy="6105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3080" y="2676240"/>
              <a:ext cx="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5689440"/>
            <a:ext cx="8686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EESS &gt; Serviço de Exploração da Terra por Satélite</a:t>
            </a:r>
            <a:r>
              <a:rPr b="1" lang="pt-BR" sz="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SRS         &gt; Serviço de Pesquisa Espa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RLS   &gt; Serviço de Radiolocalização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ARNS      &gt; Serviço de Radionavegação Aeronáu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FSS   &gt;  Serviço Fixo por Satélite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MRNVS   &gt; Serviço de Radionavegação Maríti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5280" y="88560"/>
            <a:ext cx="6858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do Espect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89400" y="114300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05040" y="2743200"/>
            <a:ext cx="7920" cy="3200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6019920"/>
            <a:ext cx="304920" cy="228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715000"/>
            <a:ext cx="304920" cy="22860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2400" y="56865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2400" y="599616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RADIAÇÃO RESTR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3160" y="2647800"/>
            <a:ext cx="1209960" cy="520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6312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2648600">
            <a:off x="162504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543800" y="2467080"/>
            <a:ext cx="15840" cy="3228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3600" y="2647800"/>
            <a:ext cx="98892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0" y="2647800"/>
            <a:ext cx="1016280" cy="38124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43120" y="3429000"/>
            <a:ext cx="195264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43120" y="4191120"/>
            <a:ext cx="195264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75120" y="4191120"/>
            <a:ext cx="268776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/ OUT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43120" y="2647800"/>
            <a:ext cx="95868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75120" y="3429000"/>
            <a:ext cx="268776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45240" y="4191120"/>
            <a:ext cx="1217880" cy="38088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50000">
                <a:srgbClr val="c19a73"/>
              </a:gs>
              <a:gs pos="100000">
                <a:srgbClr val="ffcc99">
                  <a:alpha val="50196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36640" y="5315040"/>
            <a:ext cx="6867720" cy="1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31960" y="2647800"/>
            <a:ext cx="6858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9396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044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2602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A   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3336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ROPA   HIPER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41259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(Res. nº 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13840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E.I.R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201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1813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94344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394344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15160" y="371484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643120"/>
            <a:ext cx="2676240" cy="384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2062080"/>
            <a:ext cx="762120" cy="495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8204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2648600">
            <a:off x="8407080" y="16765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2648600">
            <a:off x="25902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648600">
            <a:off x="73908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2648600">
            <a:off x="472392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2648600">
            <a:off x="353016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2648600">
            <a:off x="8711640" y="16761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31813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4857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RC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43120" y="4933800"/>
            <a:ext cx="195264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70440" y="4933800"/>
            <a:ext cx="268272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4312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389400" y="10666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2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7913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oposta de Alteraçã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52280" y="1408320"/>
            <a:ext cx="9296640" cy="2935080"/>
            <a:chOff x="152280" y="1408320"/>
            <a:chExt cx="9296640" cy="2935080"/>
          </a:xfrm>
        </p:grpSpPr>
        <p:sp>
          <p:nvSpPr>
            <p:cNvPr id="432" name=""/>
            <p:cNvSpPr/>
            <p:nvPr/>
          </p:nvSpPr>
          <p:spPr>
            <a:xfrm rot="12196800">
              <a:off x="1198440" y="144432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1865600">
              <a:off x="4525560" y="1596240"/>
              <a:ext cx="355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1857800">
              <a:off x="8008560" y="144468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83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62240" y="3197160"/>
              <a:ext cx="7248240" cy="3812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                    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SARC - Fixo / Móvel                                                       SARC - Fixo / Mó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71600" y="2816280"/>
              <a:ext cx="68374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4280" y="2811600"/>
              <a:ext cx="3505320" cy="384120"/>
            </a:xfrm>
            <a:prstGeom prst="rect">
              <a:avLst/>
            </a:prstGeom>
            <a:gradFill rotWithShape="0">
              <a:gsLst>
                <a:gs pos="0">
                  <a:srgbClr val="dbaf83"/>
                </a:gs>
                <a:gs pos="50000">
                  <a:srgbClr val="ffcc99"/>
                </a:gs>
                <a:gs pos="100000">
                  <a:srgbClr val="dbaf8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1758800">
              <a:off x="8407440" y="1596240"/>
              <a:ext cx="3556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7200" y="2284560"/>
              <a:ext cx="1800" cy="20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2282760"/>
              <a:ext cx="0" cy="2057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104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5760" y="4111560"/>
              <a:ext cx="725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24280" y="3578400"/>
              <a:ext cx="3505320" cy="533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efef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Região de Interferê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86800" y="17496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24280" y="2432160"/>
              <a:ext cx="2210040" cy="384120"/>
            </a:xfrm>
            <a:prstGeom prst="rect">
              <a:avLst/>
            </a:prstGeom>
            <a:gradFill rotWithShape="0">
              <a:gsLst>
                <a:gs pos="0">
                  <a:srgbClr val="afafdb"/>
                </a:gs>
                <a:gs pos="50000">
                  <a:srgbClr val="ccccff"/>
                </a:gs>
                <a:gs pos="100000">
                  <a:srgbClr val="afafdb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oamador - Secundá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2282760"/>
              <a:ext cx="0" cy="5335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1865600">
              <a:off x="6730560" y="152064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2280" y="2739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ITUAÇÃO 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8229600" y="4510080"/>
            <a:ext cx="0" cy="18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62240" y="5538960"/>
            <a:ext cx="7248240" cy="4442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RC - FIXO / MÓVEL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SARC - FIXO / MÓ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USO PREFERENCIAL-MÓVEL)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(USO PREFERENCIAL-FIX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5200" y="5024520"/>
            <a:ext cx="35244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cc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ADIAÇÃO RESTRITA –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400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W E.I.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NÃO LICENC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05200" y="4525920"/>
            <a:ext cx="3524400" cy="493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ecdb"/>
              </a:gs>
              <a:gs pos="100000">
                <a:srgbClr val="ffcc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vo Regulamento – 4W E.I.R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FIXO/LICENCIADO (EM CARÁTER SECUNDÁRI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05200" y="4510080"/>
            <a:ext cx="180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4916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10480" y="4510080"/>
            <a:ext cx="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59000" y="4508640"/>
            <a:ext cx="144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309600" y="1600200"/>
            <a:ext cx="8605800" cy="3958560"/>
            <a:chOff x="309600" y="1600200"/>
            <a:chExt cx="8605800" cy="3958560"/>
          </a:xfrm>
        </p:grpSpPr>
        <p:sp>
          <p:nvSpPr>
            <p:cNvPr id="460" name=""/>
            <p:cNvSpPr/>
            <p:nvPr/>
          </p:nvSpPr>
          <p:spPr>
            <a:xfrm>
              <a:off x="625320" y="1600200"/>
              <a:ext cx="8290080" cy="39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33cc"/>
                  </a:solidFill>
                  <a:latin typeface="Arial"/>
                </a:rPr>
                <a:t>Novo Regulamento para 2,4 GHz: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Acima de 400 mW EIR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População acima de 500.000 habitant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OFDM e Espalhamento Espectr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F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Licenci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Caráter Secundá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1" name=""/>
            <p:cNvGraphicFramePr/>
            <p:nvPr/>
          </p:nvGraphicFramePr>
          <p:xfrm>
            <a:off x="309600" y="171468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1714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3" name=""/>
          <p:cNvSpPr/>
          <p:nvPr/>
        </p:nvSpPr>
        <p:spPr>
          <a:xfrm>
            <a:off x="1295280" y="380880"/>
            <a:ext cx="7848720" cy="3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 Encaminhada ao CD para Consult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420840" y="1143000"/>
            <a:ext cx="8223120" cy="3348000"/>
            <a:chOff x="420840" y="1143000"/>
            <a:chExt cx="8223120" cy="3348000"/>
          </a:xfrm>
        </p:grpSpPr>
        <p:sp>
          <p:nvSpPr>
            <p:cNvPr id="465" name=""/>
            <p:cNvSpPr/>
            <p:nvPr/>
          </p:nvSpPr>
          <p:spPr>
            <a:xfrm>
              <a:off x="762120" y="1143000"/>
              <a:ext cx="7881840" cy="33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Uso da tecnologia tem sido voltado para “hot-spots” – locais de grande concentração de laptops e PDA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Hotéis e café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 de relax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Espaços de entreteni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Aeroportos e aeronav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Rodovias e ferrov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s de convençõ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6" name=""/>
            <p:cNvGraphicFramePr/>
            <p:nvPr/>
          </p:nvGraphicFramePr>
          <p:xfrm>
            <a:off x="420840" y="1246320"/>
            <a:ext cx="252360" cy="25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24632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1295280" y="88200"/>
            <a:ext cx="48006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572000"/>
            <a:ext cx="78818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ções de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ternativa para o SCD (CP em análi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Wi-Fi pode oferecer serviços comparáveis aos futuros serviços 3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20840" y="5538960"/>
          <a:ext cx="252360" cy="2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55389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419040" y="5081760"/>
          <a:ext cx="252360" cy="2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50817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19040" y="4700520"/>
          <a:ext cx="252360" cy="2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040" y="470052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1089000"/>
            <a:ext cx="739116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ência Nacional de Telecomunicações An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intendência de Radiofreqüência e Fiscalizaçã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Geral de Certificação e Engenharia do Espectr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de Engenharia do Espectro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natel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848720" y="5900760"/>
          <a:ext cx="1295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900760"/>
                    <a:ext cx="129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2133720" cy="67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umá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1992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Regulamentação aplic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/Evolução dos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sultado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WRC –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lteraçõe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gula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1880" y="1890720"/>
            <a:ext cx="252360" cy="26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2627280"/>
          <a:ext cx="25236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272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1880" y="3359160"/>
            <a:ext cx="252360" cy="2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61880" y="4079880"/>
          <a:ext cx="25236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880" y="40798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1880" y="4813200"/>
          <a:ext cx="252360" cy="2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80" y="4813200"/>
                    <a:ext cx="2523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3120" y="88920"/>
            <a:ext cx="63543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Regulamentação aplicáve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593720"/>
            <a:ext cx="8534160" cy="4471200"/>
            <a:chOff x="304920" y="1593720"/>
            <a:chExt cx="8534160" cy="4471200"/>
          </a:xfrm>
        </p:grpSpPr>
        <p:sp>
          <p:nvSpPr>
            <p:cNvPr id="75" name=""/>
            <p:cNvSpPr/>
            <p:nvPr/>
          </p:nvSpPr>
          <p:spPr>
            <a:xfrm>
              <a:off x="609480" y="1593720"/>
              <a:ext cx="8229600" cy="44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Lei nº 9.472 - Lei Geral das Telecomunicações (LGT):</a:t>
              </a:r>
              <a:r>
                <a:rPr b="1" i="1" lang="pt-BR" sz="2800" spc="-1" strike="noStrike">
                  <a:solidFill>
                    <a:srgbClr val="0033cc"/>
                  </a:solidFill>
                  <a:latin typeface="Arial"/>
                </a:rPr>
                <a:t>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rt.163, § 2º, inciso I: Estabelece que os equipamentos de radiação restrita definidos pela Agência, independerão de outorga de uso de radiofreqüênci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Res. nº 365, de 10/05/2004, da Anatel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i="1" lang="pt-BR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Regulamento sobre Equipamentos de Radiocomunicação de Radiação Restrit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04920" y="1727280"/>
              <a:ext cx="257040" cy="3263760"/>
              <a:chOff x="304920" y="1727280"/>
              <a:chExt cx="257040" cy="326376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309600" y="1727280"/>
              <a:ext cx="252360" cy="268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727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" name=""/>
              <p:cNvGraphicFramePr/>
              <p:nvPr/>
            </p:nvGraphicFramePr>
            <p:xfrm>
              <a:off x="304920" y="47228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47228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88920"/>
            <a:ext cx="23828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Conceit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9600" y="1981080"/>
            <a:ext cx="8300880" cy="3188520"/>
            <a:chOff x="309600" y="1981080"/>
            <a:chExt cx="8300880" cy="3188520"/>
          </a:xfrm>
        </p:grpSpPr>
        <p:sp>
          <p:nvSpPr>
            <p:cNvPr id="83" name=""/>
            <p:cNvSpPr/>
            <p:nvPr/>
          </p:nvSpPr>
          <p:spPr>
            <a:xfrm>
              <a:off x="609480" y="1981080"/>
              <a:ext cx="8001000" cy="31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- Termo genérico aplicado a equipamento que utilize radiofreqüência em que a emissão produza campo eletromagnético com intensidade dentro de limites estabelecidos na Regulamentação específica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Arial"/>
                </a:rPr>
                <a:t>(Resolução nº 365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309600" y="211932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11932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3480" y="88920"/>
            <a:ext cx="61365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incipais característic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1905120"/>
            <a:ext cx="8534160" cy="3972240"/>
            <a:chOff x="304920" y="1905120"/>
            <a:chExt cx="8534160" cy="3972240"/>
          </a:xfrm>
        </p:grpSpPr>
        <p:sp>
          <p:nvSpPr>
            <p:cNvPr id="89" name=""/>
            <p:cNvSpPr/>
            <p:nvPr/>
          </p:nvSpPr>
          <p:spPr>
            <a:xfrm>
              <a:off x="609480" y="1905120"/>
              <a:ext cx="8229600" cy="39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Estações isentas de licença para instalação e funcion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ão necessitam de autorização para uso de radiofreqüênc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Operam em caráter secundári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Devem ter certificado homologado pela Anatel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aso sejam utilizados p/ prestação de serviço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- Resolução nº 73, de 25/11/1998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04920" y="1969920"/>
              <a:ext cx="257040" cy="3200400"/>
              <a:chOff x="304920" y="1969920"/>
              <a:chExt cx="257040" cy="32004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9600" y="1969920"/>
              <a:ext cx="252360" cy="26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96992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" name=""/>
              <p:cNvGraphicFramePr/>
              <p:nvPr/>
            </p:nvGraphicFramePr>
            <p:xfrm>
              <a:off x="304920" y="29084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29084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"/>
              <p:cNvGraphicFramePr/>
              <p:nvPr/>
            </p:nvGraphicFramePr>
            <p:xfrm>
              <a:off x="304920" y="3824280"/>
              <a:ext cx="252360" cy="268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3824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304920" y="4368600"/>
              <a:ext cx="252360" cy="268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920" y="436860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304920" y="4902120"/>
              <a:ext cx="252360" cy="268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490212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6000" y="88920"/>
            <a:ext cx="2756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ger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676520"/>
            <a:ext cx="2590920" cy="4038480"/>
            <a:chOff x="457200" y="1676520"/>
            <a:chExt cx="2590920" cy="4038480"/>
          </a:xfrm>
        </p:grpSpPr>
        <p:sp>
          <p:nvSpPr>
            <p:cNvPr id="104" name=""/>
            <p:cNvSpPr/>
            <p:nvPr/>
          </p:nvSpPr>
          <p:spPr>
            <a:xfrm>
              <a:off x="2819520" y="1676520"/>
              <a:ext cx="228600" cy="4038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279108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Regulamento Anexo à Resolução     nº 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24080" y="1752480"/>
            <a:ext cx="5791320" cy="3903840"/>
            <a:chOff x="3124080" y="1752480"/>
            <a:chExt cx="5791320" cy="3903840"/>
          </a:xfrm>
        </p:grpSpPr>
        <p:sp>
          <p:nvSpPr>
            <p:cNvPr id="107" name=""/>
            <p:cNvSpPr/>
            <p:nvPr/>
          </p:nvSpPr>
          <p:spPr>
            <a:xfrm>
              <a:off x="3124080" y="17524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Limites Gerais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en-US" sz="1800" spc="-1" strike="noStrike" u="sng">
                  <a:solidFill>
                    <a:srgbClr val="0033cc"/>
                  </a:solidFill>
                  <a:uFillTx/>
                  <a:latin typeface="Arial"/>
                </a:rPr>
                <a:t>Independe da aplicaçã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361960"/>
              <a:ext cx="5791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Limites Específicos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Varia de acordo c/ a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       aplicaçã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Ex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Dispositivos de operação periódica,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medição,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comando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fone sem fi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fone sem cordã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Ramal sem fio de  CP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Espalhamento espect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Identificação de veículos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BS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9600" y="2589120"/>
            <a:ext cx="8605800" cy="3056400"/>
            <a:chOff x="309600" y="2589120"/>
            <a:chExt cx="8605800" cy="3056400"/>
          </a:xfrm>
        </p:grpSpPr>
        <p:sp>
          <p:nvSpPr>
            <p:cNvPr id="111" name=""/>
            <p:cNvSpPr/>
            <p:nvPr/>
          </p:nvSpPr>
          <p:spPr>
            <a:xfrm>
              <a:off x="625320" y="2589120"/>
              <a:ext cx="8290080" cy="30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2.4 GHz (OFDM e Espalhamento Espectral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Faixa de 5 GHz – Incluir faixas p/ RLA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7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DF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TP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lterações válidas para as três faixas: 900 MHz,          2,4 GHz e 5,7 GHz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309600" y="2678040"/>
            <a:ext cx="252360" cy="26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678040"/>
                      <a:ext cx="25236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09600" y="4900680"/>
            <a:ext cx="252360" cy="2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9600" y="4900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309600" y="3427560"/>
            <a:ext cx="252360" cy="26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42756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294200" y="88920"/>
            <a:ext cx="6516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 aprovada pelo C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5280" y="121932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solução nº 365, de 10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ublicada no D.O.U., de 13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05120"/>
            <a:ext cx="7086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Espalhamento Espect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eqüência Direta (S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alto em Freqüências (S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istemas Híbridos – Combinação de SD &amp; S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FD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utras Modulaçõe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cnologias de Modul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800600"/>
            <a:ext cx="8229600" cy="13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02-907,5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15-928   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2400-2483,5 MHz (400 mW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e.i.r.p.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 ou 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- 5725-5850    MHz (4 W e.i.r.p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41148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aixas de freqüê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1371600"/>
            <a:ext cx="304200" cy="3200040"/>
            <a:chOff x="304920" y="1371600"/>
            <a:chExt cx="304200" cy="3200040"/>
          </a:xfrm>
        </p:grpSpPr>
        <p:graphicFrame>
          <p:nvGraphicFramePr>
            <p:cNvPr id="127" name=""/>
            <p:cNvGraphicFramePr/>
            <p:nvPr/>
          </p:nvGraphicFramePr>
          <p:xfrm>
            <a:off x="310320" y="1371600"/>
            <a:ext cx="298800" cy="2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320" y="1371600"/>
                      <a:ext cx="29880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304920" y="4279680"/>
            <a:ext cx="298800" cy="29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279680"/>
                      <a:ext cx="2988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533520" y="2197080"/>
            <a:ext cx="8229240" cy="1181160"/>
            <a:chOff x="533520" y="2197080"/>
            <a:chExt cx="8229240" cy="1181160"/>
          </a:xfrm>
        </p:grpSpPr>
        <p:sp>
          <p:nvSpPr>
            <p:cNvPr id="133" name=""/>
            <p:cNvSpPr/>
            <p:nvPr/>
          </p:nvSpPr>
          <p:spPr>
            <a:xfrm>
              <a:off x="4687920" y="2201760"/>
              <a:ext cx="4074840" cy="11595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33cc"/>
                  </a:solidFill>
                  <a:latin typeface="Arial"/>
                </a:rPr>
                <a:t>Caso seja utilizada antena com ganho direcional superior a 6 dBi, a potência do transmissor deve ser reduzida da mesma quantidade em dB que o ganho direcional da antena exceder a 6 dB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33520" y="2197080"/>
              <a:ext cx="3914280" cy="1181160"/>
              <a:chOff x="533520" y="2197080"/>
              <a:chExt cx="3914280" cy="118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533520" y="2197080"/>
                <a:ext cx="3914280" cy="118116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Ptx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1 W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4 W </a:t>
                </a:r>
                <a:r>
                  <a:rPr b="1" i="1" lang="pt-BR" sz="1400" spc="-1" strike="noStrike">
                    <a:solidFill>
                      <a:srgbClr val="0033cc"/>
                    </a:solidFill>
                    <a:latin typeface="Arial"/>
                  </a:rPr>
                  <a:t>e.i.r.p.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G </a:t>
                </a:r>
                <a:r>
                  <a:rPr b="1" lang="pt-BR" sz="1000" spc="-1" strike="noStrike">
                    <a:solidFill>
                      <a:srgbClr val="0033cc"/>
                    </a:solidFill>
                    <a:latin typeface="Arial"/>
                  </a:rPr>
                  <a:t>antena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6 d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7200" y="2793960"/>
                <a:ext cx="479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51080" y="2489040"/>
                <a:ext cx="79560" cy="609840"/>
              </a:xfrm>
              <a:custGeom>
                <a:avLst/>
                <a:gdLst>
                  <a:gd name="textAreaLeft" fmla="*/ 0 w 79560"/>
                  <a:gd name="textAreaRight" fmla="*/ 28800 w 79560"/>
                  <a:gd name="textAreaTop" fmla="*/ 15840 h 609840"/>
                  <a:gd name="textAreaBottom" fmla="*/ 5940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533520" y="3581280"/>
            <a:ext cx="8305560" cy="2286000"/>
            <a:chOff x="533520" y="3581280"/>
            <a:chExt cx="8305560" cy="228600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4205520"/>
              <a:ext cx="8305560" cy="733320"/>
              <a:chOff x="533520" y="4205520"/>
              <a:chExt cx="8305560" cy="73332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4205520"/>
                <a:ext cx="8305560" cy="7333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2400-2483,5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Reduzir 1 dB no Tx para cada 3 dB que o Ganho da antena exceder a 6 dBi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5120" y="46814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33520" y="5105520"/>
              <a:ext cx="8305560" cy="761760"/>
              <a:chOff x="533520" y="5105520"/>
              <a:chExt cx="8305560" cy="761760"/>
            </a:xfrm>
          </p:grpSpPr>
          <p:sp>
            <p:nvSpPr>
              <p:cNvPr id="143" name=""/>
              <p:cNvSpPr/>
              <p:nvPr/>
            </p:nvSpPr>
            <p:spPr>
              <a:xfrm>
                <a:off x="533520" y="5105520"/>
                <a:ext cx="8305560" cy="7617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5725-5850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Ganho da antena pode ser &gt;  6 dBi, sem necessidade de reduzir a Ptx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55958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209680" y="358128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cc"/>
                  </a:solidFill>
                  <a:uFillTx/>
                  <a:latin typeface="Arial"/>
                </a:rPr>
                <a:t>Condiçõ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</a:t>
            </a:r>
            <a:r>
              <a:rPr b="1" lang="pt-BR" sz="2500" spc="-1" strike="noStrike">
                <a:solidFill>
                  <a:srgbClr val="0033cc"/>
                </a:solidFill>
                <a:latin typeface="Arial"/>
              </a:rPr>
              <a:t>900 MHz, 2,4 GHz e 5,7 GHz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3:21:17Z</dcterms:created>
  <dc:creator>Eliézer</dc:creator>
  <dc:description/>
  <dc:language>en-US</dc:language>
  <cp:lastModifiedBy>Abranet</cp:lastModifiedBy>
  <cp:lastPrinted>2003-12-11T18:17:29Z</cp:lastPrinted>
  <dcterms:modified xsi:type="dcterms:W3CDTF">2004-05-28T17:15:56Z</dcterms:modified>
  <cp:revision>535</cp:revision>
  <dc:subject>WI-Fi e RLAN 5GHz</dc:subject>
  <dc:title>Apresentação do PowerPoint</dc:title>
</cp:coreProperties>
</file>