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5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nshul Jain" initials="AJ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03-11-23T14:38:45.153000000" idx="2">
    <p:pos x="10" y="0"/>
    <p:text>How do we calculate Probe Delay?
Why need sync?</p:text>
  </p:cm>
</p:cmLst>
</file>

<file path=ppt/comments/comment15.xml><?xml version="1.0" encoding="utf-8"?>
<p:cmLst xmlns:p="http://schemas.openxmlformats.org/presentationml/2006/main">
  <p:cm authorId="0" dt="2003-11-23T14:40:12.569000000" idx="3">
    <p:pos x="10" y="10"/>
    <p:text>Talk about:
1. Scanning starts at channel 1
2. Why two PRequest frames
3. Why 22
4. MinChannelTime and MaxChanneTime</p:text>
  </p:cm>
</p:cmLst>
</file>

<file path=ppt/comments/comment16.xml><?xml version="1.0" encoding="utf-8"?>
<p:cmLst xmlns:p="http://schemas.openxmlformats.org/presentationml/2006/main">
  <p:cm authorId="0" dt="2003-11-23T14:44:44.370000000" idx="4">
    <p:pos x="10" y="10"/>
    <p:text>Mention Probe Delay is 99% of overall handoff latency.</p:text>
  </p:cm>
</p:cmLst>
</file>

<file path=ppt/comments/comment19.xml><?xml version="1.0" encoding="utf-8"?>
<p:cmLst xmlns:p="http://schemas.openxmlformats.org/presentationml/2006/main">
  <p:cm authorId="0" dt="2003-11-23T14:46:00.770000000" idx="5">
    <p:pos x="10" y="10"/>
    <p:text>Mention how did I measure probe delay and handoff delay.</p:text>
  </p:cm>
</p:cmLst>
</file>

<file path=ppt/comments/comment5.xml><?xml version="1.0" encoding="utf-8"?>
<p:cmLst xmlns:p="http://schemas.openxmlformats.org/presentationml/2006/main">
  <p:cm authorId="0" dt="2003-11-12T23:42:13.109000000" idx="1">
    <p:pos x="10" y="10"/>
    <p:text>Check how the bandwidth is 85Mhz when the channe 1 starts at 2401 Mhz and channel 11 ends at 2473 Mhz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C85C-63FE-42D9-B4A6-6AD60C59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B0E6-3371-41C5-8FD9-A94B8CAC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0B3A-12E8-46B8-992A-F8810C3A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741C-9025-428C-BC05-02CBEB3E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9D89-EB79-49D0-9D62-042C6EDA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60FE-38C6-4EBF-8DE4-47EA8684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15A0-1BEE-4E4D-A9E8-C19DB12E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6AAB-32B4-46AB-8E05-8F1FE8CA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54C2-326F-4E3C-82A4-49C6A309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6604-5F9A-4330-9174-BB8528BC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B6F5-BE26-465F-B9B2-0CA132C8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7562-8DF2-4383-A0D3-34E72061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6F49-B6AD-4235-9CAB-4C8A7C7A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52A7-16A5-4180-817A-57749428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5B88-7F54-4CB3-9BEC-1FF94C66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AC97-FDD5-4F90-9ADB-300F8861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CECE-C590-4732-9DEC-3674B537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B52B-A64C-4112-A774-A3C4389F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4177-0E15-4CE1-8D36-16284621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BD22-CE50-4B24-AFEE-4D47DC12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1F3C-AEDD-42CA-AF61-ECB05D0B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F198-710B-4817-ADBC-D7A5EFE0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42F5-6160-4FFB-AC94-4162FF8D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FCE9-3CC5-4DF2-A6D9-C2EA9C9A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198B-03FF-43A7-9EEE-FA89C206AB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94A4-0CCE-4F2C-999D-AC2F84A547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Delay for 802.11b Wireless 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ters Project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hul J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te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Henning Schulzrinne, Columbi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Zongming Fei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Jim Grffioen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Ken Calvert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oratory of Advanced Networking at University of Kentuc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ed network nam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Ps on channel 1 and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00 M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atewa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isco Aironet 35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Sniffe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IV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67 G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n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reless PCMCIA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300 MHz, 128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 Hat 8.0 with kernel version 2.4.18-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Cisco 350 card is airo-linu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Linksys WPC11 card is linux-wlan-ng-0.1.16.pre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ismet 802.11 wireless network sni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packet’s AiroPeek packet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hereal network protocol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sco Aironet Client Ut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sco drivers downloaded from Cisco’s website do not support promiscuous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Kismet, one can’t restrict Cisco 350 cards to sniff on one particula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Cisco cards, no current drivers on linux reports signal strength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mode precludes the ability of the wireless card to send data to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vendor has their own formula to convert RSSI value to Decibel Milliwatts (dBm). Could not find this conversion formula for Links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s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s are divided into the following catego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 of Beacon Interval on handoff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at the point of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pecte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2-1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306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414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1440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1.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6.1ms to 547.10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is this discrepanc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s overhearing Probe Request due to channel over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Probe Response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on channel 1 sends Probe Response for Probe Requests on channel 2,3 and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 on channel 11 sends Probe Response for Probe Requests on channel 8,9 and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0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EE 802.11 Wireless LA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Managemen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38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2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7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2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0.306ms to 553.69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5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4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9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5.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18.303ms to 340.49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9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6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9.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6.1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58.564ms to 280.83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9339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 of Beacon Interval on handoff La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143000" y="1981080"/>
            <a:ext cx="6769080" cy="434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APs have same SSID and are on different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54864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6.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2.6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257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LAN Station (S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Points (A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Service Set (B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System (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ed Service Set (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 strength at the poi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523880" y="1828800"/>
            <a:ext cx="59500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540972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verage signal strengt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79.5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SS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-81.926dBm to -77.074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5627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62120" y="21337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e delay accounts for more than 99% of overall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ificant variation in handoff latency with change in APs SSID and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st handoff latency when APs have same SSID and are on same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ing the signal strength threshold does not effect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acon interval has no effect on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off latencies we measured far exceed the guidelines for jitter in voice over IP applications where the overall latency is recommended not to exceed 50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2428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ways to configure 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-h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ry node can talk to each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xed APs with which mobile nodes can commun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s are connected to 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2288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nel Allo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3.5 MHz from 2.4000 GHz to 2.4835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channels, each channel being 22 MHz in width, and each channel centered at 5 MHz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600200" y="403848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Management Fr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a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node moves from coverage area of one AP to that of another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s During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ion and scanning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and passive scanning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re-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e Scanning Mode proced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ransmi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quest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rame which contains the broadcast address as the destina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r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tim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isten for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no respons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can next channel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one or more responses ar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top accepting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s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axChannelTime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d process all received respons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ve to next channel and repeat above step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messages exchanged between the mobile node and the participating A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hent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44600" y="2017800"/>
            <a:ext cx="34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3:25:16Z</dcterms:created>
  <dc:creator>Anshul Jain</dc:creator>
  <dc:description/>
  <dc:language>en-US</dc:language>
  <cp:lastModifiedBy>Anshul Jain</cp:lastModifiedBy>
  <dcterms:modified xsi:type="dcterms:W3CDTF">2003-11-24T01:09:08Z</dcterms:modified>
  <cp:revision>359</cp:revision>
  <dc:subject/>
  <dc:title>Handoff Delay for 802.11b </dc:title>
</cp:coreProperties>
</file>