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comments/comment5.xml" ContentType="application/vnd.openxmlformats-officedocument.presentationml.comments+xml"/>
  <Override PartName="/ppt/comments/comment14.xml" ContentType="application/vnd.openxmlformats-officedocument.presentationml.comments+xml"/>
  <Override PartName="/ppt/comments/comment15.xml" ContentType="application/vnd.openxmlformats-officedocument.presentationml.comments+xml"/>
  <Override PartName="/ppt/comments/comment16.xml" ContentType="application/vnd.openxmlformats-officedocument.presentationml.comments+xml"/>
  <Override PartName="/ppt/comments/comment1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nshul Jain" initials="AJ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<Relationship Id="rId38" Type="http://schemas.openxmlformats.org/officeDocument/2006/relationships/commentAuthors" Target="commentAuthors.xml"/>
</Relationships>
</file>

<file path=ppt/comments/comment14.xml><?xml version="1.0" encoding="utf-8"?>
<p:cmLst xmlns:p="http://schemas.openxmlformats.org/presentationml/2006/main">
  <p:cm authorId="0" dt="2003-11-23T14:38:45.153000000" idx="2">
    <p:pos x="10" y="0"/>
    <p:text>How do we calculate Probe Delay?
Why need sync?</p:text>
  </p:cm>
</p:cmLst>
</file>

<file path=ppt/comments/comment15.xml><?xml version="1.0" encoding="utf-8"?>
<p:cmLst xmlns:p="http://schemas.openxmlformats.org/presentationml/2006/main">
  <p:cm authorId="0" dt="2003-11-23T14:40:12.569000000" idx="3">
    <p:pos x="10" y="10"/>
    <p:text>Talk about:
1. Scanning starts at channel 1
2. Why two PRequest frames
3. Why 22
4. MinChannelTime and MaxChanneTime</p:text>
  </p:cm>
</p:cmLst>
</file>

<file path=ppt/comments/comment16.xml><?xml version="1.0" encoding="utf-8"?>
<p:cmLst xmlns:p="http://schemas.openxmlformats.org/presentationml/2006/main">
  <p:cm authorId="0" dt="2003-11-23T14:44:44.370000000" idx="4">
    <p:pos x="10" y="10"/>
    <p:text>Mention Probe Delay is 99% of overall handoff latency.</p:text>
  </p:cm>
</p:cmLst>
</file>

<file path=ppt/comments/comment19.xml><?xml version="1.0" encoding="utf-8"?>
<p:cmLst xmlns:p="http://schemas.openxmlformats.org/presentationml/2006/main">
  <p:cm authorId="0" dt="2003-11-23T14:46:00.770000000" idx="5">
    <p:pos x="10" y="10"/>
    <p:text>Mention how did I measure probe delay and handoff delay.</p:text>
  </p:cm>
</p:cmLst>
</file>

<file path=ppt/comments/comment5.xml><?xml version="1.0" encoding="utf-8"?>
<p:cmLst xmlns:p="http://schemas.openxmlformats.org/presentationml/2006/main">
  <p:cm authorId="0" dt="2003-11-12T23:42:13.109000000" idx="1">
    <p:pos x="10" y="10"/>
    <p:text>Check how the bandwidth is 85Mhz when the channe 1 starts at 2401 Mhz and channel 11 ends at 2473 Mhz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606E-67E2-444F-8F38-B5CDCA74F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BAD4-43B4-43F8-8261-6591E0E4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3B71-F079-4FDE-9FC5-6470CC41B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F7EB-ACC0-40F4-B17B-CE879F877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3C301-01A8-405C-A7BF-0E5C87123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52CC4-F1DA-4825-87A1-E39B63714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6A80D-7A05-4C38-91A9-3A2B1E802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5520B-1E46-4154-990F-7E9D1A73F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791AD-382A-41A4-B9D4-7114CBD43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151C0-C5EC-4351-AFF1-28235DEA7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D0036-2AB1-4039-A52C-6C9B2DA7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2608-CF10-4072-9430-CF4F5BCB5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B4226-27E8-49D9-A878-2F2C17E2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7F4B9-BBB8-4642-BF08-E532D76B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6086B-2282-433F-8CCB-4D09D785B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5EAB9-40E9-4A35-8DC5-18CA66F9A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0FF5F-BE05-4784-9DEC-5C1287BA4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7DB8-A651-4A57-9A6C-71131151E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0325-FE22-4ECE-99A4-91349C13E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6EED-AAD5-495B-8B6B-4E35492D7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EC21-2782-44A8-BD52-A4DE6A3C5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07DC-4995-4D4E-88B8-2662A891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11D2-E5DF-460C-92A6-70F53B8D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94E4-5BB3-46D7-9CF0-7FEB92C6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C67DB-995B-463A-8A7D-2C2F782A05B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71FF0-59AF-43E3-AB2F-F28C45C8BF9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.xml"/><Relationship Id="rId3" Type="http://schemas.openxmlformats.org/officeDocument/2006/relationships/comments" Target="../comments/comment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0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0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0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0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Delay for 802.11b Wireless LA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sters Project def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shul J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itte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Henning Schulzrinne, Columbia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Zongming Fei, University of Kentuc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Jim Grffioen, University of Kentuc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Ken Calvert, University of Kentuc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perimental Setu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boratory of Advanced Networking at University of Kentuck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ployed network named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ith APs on channel 1 and 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Cli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tiu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II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300 MHz, 256 MB RA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Gateway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ptop with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isco Aironet 350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reless ca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Sniffer Syst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tium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IV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.67 GHz, 256 MB RA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ony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ptop with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Linksys WPC11 v3.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ireless PCMCIA ca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tiu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I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300 MHz, 128 MB RA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B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laptop with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Linksys WPC11 v3.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wireless ca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perimental Setu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ing Syste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d Hat 8.0 with kernel version 2.4.18-1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ndows X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riv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iver used for Cisco 350 card is airo-linu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iver used for Linksys WPC11 card is linux-wlan-ng-0.1.16.pre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ftware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ismet 802.11 wireless network sniff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lpacket’s AiroPeek packet analy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thereal network protocol analy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isco Aironet Client Ut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guration Probl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isco drivers downloaded from Cisco’s website do not support promiscuous m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ing Kismet, one can’t restrict Cisco 350 cards to sniff on one particula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Cisco cards, no current drivers on linux reports signal strength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nitor mode precludes the ability of the wireless card to send data to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vendor has their own formula to convert RSSI value to Decibel Milliwatts (dBm). Could not find this conversion formula for Linksy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tails of Experi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s are divided into the following categori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different SSIDs are on different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different SSIDs are on the same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the same SSID are on different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the same SSID are on the same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 of Beacon Interval on handoff 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trength at the point of hand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different SSIDs on different chann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Expected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hannel 1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hannel 2-10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otal of 306m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 414m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914400" y="1981080"/>
            <a:ext cx="42670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31.6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28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16.1ms to 547.106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78168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y is this discrepancy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s overhearing Probe Request due to channel overl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Probe Response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 on channel 1 sends Probe Response for Probe Requests on channel 2,3 and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  on channel 11 sends Probe Response for Probe Requests on channel 8,9 and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2-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16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5-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10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16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53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different SSIDs on same chann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EEE 802.11 Wireless LAN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2.11 Managemen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 Proced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erimental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of Experi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mmary of Experi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-7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238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22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7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53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5409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32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28.4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10.306ms to 553.694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8580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same SSID on different chann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3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2-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5-7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5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3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34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533412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329.4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325.8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318.303ms to 340.497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8580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same SSID on same chann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-7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9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3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26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533412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69.7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66.1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58.564ms to 280.836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933960" cy="31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ffect of Beacon Interval on handoff Lat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143000" y="1981080"/>
            <a:ext cx="6769080" cy="43434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e: APs have same SSID and are on different channe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720" y="548640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306.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302.6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828800" y="1981080"/>
            <a:ext cx="52578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IEEE 802.11 Wireless LAN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LAN Station (ST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Points (A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 Service Set (B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ion System (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ded Service Set (E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4724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gnal strength at the point of handoff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523880" y="1828800"/>
            <a:ext cx="595008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5409720"/>
            <a:ext cx="777240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verage signal strength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-79.5dB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SS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32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-81.926dBm to -77.074dB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828800" y="1981080"/>
            <a:ext cx="5562720" cy="31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f Experi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762120" y="213372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e delay accounts for more than 99% of overall handoff lat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ificant variation in handoff latency with change in APs SSID and chann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mallest handoff latency when APs have same SSID and are on same chann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nging the signal strength threshold does not effect handoff lat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acon interval has no effect on handoff lat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off latencies we measured far exceed the guidelines for jitter in voice over IP applications where the overall latency is recommended not to exceed 50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IEEE 802.11 Wireless LAN architecture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724280" y="2017800"/>
            <a:ext cx="423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ways to configure a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-ho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o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Every node can talk to each o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ixed APs with which mobile nodes can communic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Ps are connected to 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19320" y="2362320"/>
            <a:ext cx="322884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nnel Alloc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7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3.5 MHz from 2.4000 GHz to 2.4835 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1 channels, each channel being 22 MHz in width, and each channel centered at 5 MHz interv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>
            <a:lum contrast="28000"/>
          </a:blip>
          <a:stretch/>
        </p:blipFill>
        <p:spPr>
          <a:xfrm>
            <a:off x="1600200" y="4038480"/>
            <a:ext cx="6629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802.11 Management Fram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ion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ion 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ssociation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ssociation 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a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e 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Proced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bile node moves from coverage area of one AP to that of another 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s During Handof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tion and scanning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ive and passive scanning m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re-assoc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Procedure (cont.)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ctive Scanning Mode procedur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ransmit a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request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rame which contains the broadcast address as the destination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tart a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timer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Listen for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respons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f no response received by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minChannelTim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, scan next channel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f one or more responses are received by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minChannelTim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, stop accepting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responses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t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maxChannelTime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nd process all received responses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Move to next channel and repeat above steps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Procedure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messages exchanged between the mobile node and the participating AP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b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uthentic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assoc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344600" y="2017800"/>
            <a:ext cx="3486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3T03:25:16Z</dcterms:created>
  <dc:creator>Anshul Jain</dc:creator>
  <dc:description/>
  <dc:language>en-US</dc:language>
  <cp:lastModifiedBy>Anshul Jain</cp:lastModifiedBy>
  <dcterms:modified xsi:type="dcterms:W3CDTF">2003-11-24T01:09:08Z</dcterms:modified>
  <cp:revision>359</cp:revision>
  <dc:subject/>
  <dc:title>Handoff Delay for 802.11b </dc:title>
</cp:coreProperties>
</file>