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comments/comment5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6.xml" ContentType="application/vnd.openxmlformats-officedocument.presentationml.comments+xml"/>
  <Override PartName="/ppt/comments/comment1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nshul Jain" initials="AJ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<Relationship Id="rId38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03-11-23T14:38:45.153000000" idx="2">
    <p:pos x="10" y="0"/>
    <p:text>How do we calculate Probe Delay?
Why need sync?</p:text>
  </p:cm>
</p:cmLst>
</file>

<file path=ppt/comments/comment15.xml><?xml version="1.0" encoding="utf-8"?>
<p:cmLst xmlns:p="http://schemas.openxmlformats.org/presentationml/2006/main">
  <p:cm authorId="0" dt="2003-11-23T14:40:12.569000000" idx="3">
    <p:pos x="10" y="10"/>
    <p:text>Talk about:
1. Scanning starts at channel 1
2. Why two PRequest frames
3. Why 22
4. MinChannelTime and MaxChanneTime</p:text>
  </p:cm>
</p:cmLst>
</file>

<file path=ppt/comments/comment16.xml><?xml version="1.0" encoding="utf-8"?>
<p:cmLst xmlns:p="http://schemas.openxmlformats.org/presentationml/2006/main">
  <p:cm authorId="0" dt="2003-11-23T14:44:44.370000000" idx="4">
    <p:pos x="10" y="10"/>
    <p:text>Mention Probe Delay is 99% of overall handoff latency.</p:text>
  </p:cm>
</p:cmLst>
</file>

<file path=ppt/comments/comment19.xml><?xml version="1.0" encoding="utf-8"?>
<p:cmLst xmlns:p="http://schemas.openxmlformats.org/presentationml/2006/main">
  <p:cm authorId="0" dt="2003-11-23T14:46:00.770000000" idx="5">
    <p:pos x="10" y="10"/>
    <p:text>Mention how did I measure probe delay and handoff delay.</p:text>
  </p:cm>
</p:cmLst>
</file>

<file path=ppt/comments/comment5.xml><?xml version="1.0" encoding="utf-8"?>
<p:cmLst xmlns:p="http://schemas.openxmlformats.org/presentationml/2006/main">
  <p:cm authorId="0" dt="2003-11-12T23:42:13.109000000" idx="1">
    <p:pos x="10" y="10"/>
    <p:text>Check how the bandwidth is 85Mhz when the channe 1 starts at 2401 Mhz and channel 11 ends at 2473 Mhz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84D-D45D-481E-9E4C-AD3BAE2B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9D6-5AD6-4824-9129-CE65F635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B39-B36D-41D2-9DFC-0DC0A9D0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4CB4-E6BD-4C8F-BCB4-B6E0DB60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04F6-B575-49EF-B6B5-0FEC490E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D98BB-CF81-4045-AB93-21A89F27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506D-CC18-44CF-8B9D-DA9FB3F0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970-16E9-4F6E-8821-47832E87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42F9-2FF7-48B7-A8CB-3CE42939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7E62-70CF-491C-8ACA-941E6C95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091E-6EB4-4B89-91A6-F4F27C3D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9411-B350-4EB2-A36D-9FE2D848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4489-5BE9-4309-B98C-C08CC1E82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A00A-3961-4031-8F62-1F570F8C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0488-5469-4F13-8DCE-DCB98D17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438B-C114-43C3-8A11-FB219B49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03298-9E55-4508-912C-7344EFF01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1611-BF35-4C88-B4BC-F3ACD356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ED4-0B0E-45D9-97A7-A4EC6E89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EAA-765E-44A1-917D-C87F326D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16F-8BBD-4E14-A0D4-714F9FEE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22FD-29E4-4A22-9F26-4CE9B0E7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0A3-C08A-4B47-A321-0B6D96545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08B-8399-457F-95B6-FBB75FF8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C957D-10AD-4CCE-BA68-B39B3773B7D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9783-149B-45B0-9AB8-65298A3F72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0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0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0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Delay for 802.11b Wireless LA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sters Project def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shul J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itte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Henning Schulzrinne, Columbi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Zongming Fei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Jim Grffioen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. Ken Calvert, University of Kentuck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boratory of Advanced Networking at University of Kentuc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ployed network named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th APs on channel 1 and 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Cli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300 M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Gatewa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isco Aironet 350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Sniffer Syste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IV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.67 GHz, 256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ony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ireless PCMCIA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ntiu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300 MHz, 128 MB RAM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IB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laptop with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Linksys WPC11 v3.0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wireless ca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perimental Setu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ing Syste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d Hat 8.0 with kernel version 2.4.18-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ndows X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ri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Cisco 350 card is airo-linu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iver used for Linksys WPC11 card is linux-wlan-ng-0.1.16.pre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ftware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Kismet 802.11 wireless network sni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ilpacket’s AiroPeek packet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hereal network protocol analy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isco Aironet Client Ut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guration Probl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isco drivers downloaded from Cisco’s website do not support promiscuous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ing Kismet, one can’t restrict Cisco 350 cards to sniff on one particula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Cisco cards, no current drivers on linux reports signal strength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nitor mode precludes the ability of the wireless card to send data to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vendor has their own formula to convert RSSI value to Decibel Milliwatts (dBm). Could not find this conversion formula for Linksy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tails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s are divided into the following categori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different SSIDs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different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ndoff analysis when APs having the same SSID are on the same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 of Beacon Interval on handoff 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trength at the point of hand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Expected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2-10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306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7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: 414m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914400" y="19810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5486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1.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6.1ms to 547.10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7816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is this discrepanc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s overhearing Probe Request due to channel overl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Probe Response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on channel 1 sends Probe Response for Probe Requests on channel 2,3 and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  on channel 11 sends Probe Response for Probe Requests on channel 8,9 and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0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16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5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different SSIDs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EEE 802.11 Wireless LAN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2.11 Managemen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 Proced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erimental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mmary of Experi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38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22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2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nshul-1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of 7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534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5409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32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28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510.306ms to 553.69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different chann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2-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5-7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5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4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9.4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25.8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318.303ms to 340.49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8580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s having same SSID on same channe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068480" y="1900080"/>
            <a:ext cx="67831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be Delay Calcu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-7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9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8-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111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annel 1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7ms delay for AP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nsh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tal of 3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267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533412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9.7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66.1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258.564ms to 280.836m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219320" y="2017800"/>
            <a:ext cx="693396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ffect of Beacon Interval on handoff La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143000" y="1981080"/>
            <a:ext cx="6769080" cy="43434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e: APs have same SSID and are on different channe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720" y="5486400"/>
            <a:ext cx="77724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handoff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6.2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probe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302.6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authentic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1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verage reassociation delay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2.3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257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less LAN Station (ST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Points (A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 Service Set (B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ion System (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ded Service Set (ES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133720"/>
            <a:ext cx="47242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gnal strength at the point of handoff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523880" y="1828800"/>
            <a:ext cx="595008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s and Ana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680" y="540972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verage signal strength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-79.5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SS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32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95% Confidence Interv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-81.926dBm to -77.074dB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1828800" y="1981080"/>
            <a:ext cx="5562720" cy="31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f Experi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762120" y="213372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e delay accounts for more than 99% of overall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ificant variation in handoff latency with change in APs SSID and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mallest handoff latency when APs have same SSID and are on same chann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nging the signal strength threshold does not effect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acon interval has no effect on handoff latenc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off latencies we measured far exceed the guidelines for jitter in voice over IP applications where the overall latency is recommended not to exceed 50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IEEE 802.11 Wireless LAN architect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2428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ways to configure a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-ho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o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Every node can talk to each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ixed APs with which mobile nodes can communic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Ps are connected to 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19320" y="2362320"/>
            <a:ext cx="322884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nnel Alloc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7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3.5 MHz from 2.4000 GHz to 2.4835 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1 channels, each channel being 22 MHz in width, and each channel centered at 5 MHz interv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>
            <a:lum contrast="28000"/>
          </a:blip>
          <a:stretch/>
        </p:blipFill>
        <p:spPr>
          <a:xfrm>
            <a:off x="1600200" y="4038480"/>
            <a:ext cx="6629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802.11 Management Fr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ssociation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a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e 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bile node moves from coverage area of one AP to that of another 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s During Hand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tion and scanning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ive and passive scanning m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re-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ctive Scanning Mode procedure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Transmi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quest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frame which contains the broadcast address as the destination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Start a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timer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Listen for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no respons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can next channel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f one or more responses are received by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inChannelTime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, stop accepting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probe responses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t </a:t>
            </a:r>
            <a:r>
              <a:rPr b="0" i="1" lang="en-US" sz="2500" spc="-1" strike="noStrike">
                <a:solidFill>
                  <a:srgbClr val="000000"/>
                </a:solidFill>
                <a:latin typeface="Tahoma"/>
              </a:rPr>
              <a:t>maxChannelTime 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and process all received response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Move to next channel and repeat above steps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ndoff Procedure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messages exchanged between the mobile node and the participating AP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b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uthentic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assoc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344600" y="2017800"/>
            <a:ext cx="348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3T03:25:16Z</dcterms:created>
  <dc:creator>Anshul Jain</dc:creator>
  <dc:description/>
  <dc:language>en-US</dc:language>
  <cp:lastModifiedBy>Anshul Jain</cp:lastModifiedBy>
  <dcterms:modified xsi:type="dcterms:W3CDTF">2003-11-24T01:09:08Z</dcterms:modified>
  <cp:revision>359</cp:revision>
  <dc:subject/>
  <dc:title>Handoff Delay for 802.11b </dc:title>
</cp:coreProperties>
</file>