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5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6.xml" ContentType="application/vnd.openxmlformats-officedocument.presentationml.comments+xml"/>
  <Override PartName="/ppt/comments/comment1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nshul Jain" initials="AJ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<Relationship Id="rId38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03-11-23T14:38:45.153000000" idx="2">
    <p:pos x="10" y="0"/>
    <p:text>How do we calculate Probe Delay?
Why need sync?</p:text>
  </p:cm>
</p:cmLst>
</file>

<file path=ppt/comments/comment15.xml><?xml version="1.0" encoding="utf-8"?>
<p:cmLst xmlns:p="http://schemas.openxmlformats.org/presentationml/2006/main">
  <p:cm authorId="0" dt="2003-11-23T14:40:12.569000000" idx="3">
    <p:pos x="10" y="10"/>
    <p:text>Talk about:
1. Scanning starts at channel 1
2. Why two PRequest frames
3. Why 22
4. MinChannelTime and MaxChanneTime</p:text>
  </p:cm>
</p:cmLst>
</file>

<file path=ppt/comments/comment16.xml><?xml version="1.0" encoding="utf-8"?>
<p:cmLst xmlns:p="http://schemas.openxmlformats.org/presentationml/2006/main">
  <p:cm authorId="0" dt="2003-11-23T14:44:44.370000000" idx="4">
    <p:pos x="10" y="10"/>
    <p:text>Mention Probe Delay is 99% of overall handoff latency.</p:text>
  </p:cm>
</p:cmLst>
</file>

<file path=ppt/comments/comment19.xml><?xml version="1.0" encoding="utf-8"?>
<p:cmLst xmlns:p="http://schemas.openxmlformats.org/presentationml/2006/main">
  <p:cm authorId="0" dt="2003-11-23T14:46:00.770000000" idx="5">
    <p:pos x="10" y="10"/>
    <p:text>Mention how did I measure probe delay and handoff delay.</p:text>
  </p:cm>
</p:cmLst>
</file>

<file path=ppt/comments/comment5.xml><?xml version="1.0" encoding="utf-8"?>
<p:cmLst xmlns:p="http://schemas.openxmlformats.org/presentationml/2006/main">
  <p:cm authorId="0" dt="2003-11-12T23:42:13.109000000" idx="1">
    <p:pos x="10" y="10"/>
    <p:text>Check how the bandwidth is 85Mhz when the channe 1 starts at 2401 Mhz and channel 11 ends at 2473 Mhz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2A4B-1D56-4B3D-8230-34327FD4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3AFE-0510-4333-840E-DFCF3084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D9E3-E3D3-4790-8D6C-8E4B044C4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EB26-C454-491A-B379-9BC7B66D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81B0-ECA4-4DD8-A1AE-F79A4EE2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7991-3913-4AAE-8FCB-2B197E80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E446-11C4-4763-BB3A-3C7A6DA9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9C24-D01F-43F0-9128-9B11936A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B58B-A3E9-4898-859C-D9985C23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9105-88F4-4623-8023-58A0A930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51B9-94DF-4B0E-B2C0-5E847B8F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B32A-26EA-4749-9E1C-A570B5F5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7951-1EEC-429D-8719-3FEFD928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579C-6683-43F8-8C45-E53B27D7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8EEE-CE75-440D-8DB8-5975BB86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FC9C-E8AE-4437-A096-71F842448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4FFA-AF56-48EC-8B66-AE295CC6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731D-D180-493A-A5ED-4F28054E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8A83-F359-4FD1-90EF-F7E9E857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1C49-2ED9-4D2A-8EE1-24A7A397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92E6-C421-4C17-A316-3F9009ED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E8D9-641E-453C-BB4F-49C1911F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9D78-670B-4BFE-B45D-4112AACC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D247-8140-4767-89A9-94C33454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C568-595C-47D1-A43B-6CC6FEBF6A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8FA6-3144-438C-B2F1-D4937B5392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<Relationship Id="rId3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Delay for 802.11b Wireless LA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sters Project def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hul J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itte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Henning Schulzrinne, Columbi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Zongming Fei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Jim Grffioen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Ken Calvert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boratory of Advanced Networking at University of Kentuc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loyed network nam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APs on channel 1 and 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Cl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300 M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atewa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isco Aironet 35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Sniffer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IV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67 G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on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reless PCMCIA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300 MHz, 128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B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ng Syste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 Hat 8.0 with kernel version 2.4.18-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s X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Cisco 350 card is airo-linu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Linksys WPC11 card is linux-wlan-ng-0.1.16.pre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ismet 802.11 wireless network snif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lpacket’s AiroPeek packet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hereal network protocol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sco Aironet Client Ut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isco drivers downloaded from Cisco’s website do not support promiscuous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Kismet, one can’t restrict Cisco 350 cards to sniff on one particula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Cisco cards, no current drivers on linux reports signal strength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 mode precludes the ability of the wireless card to send data to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vendor has their own formula to convert RSSI value to Decibel Milliwatts (dBm). Could not find this conversion formula for Links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ails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s are divided into the following categor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 of Beacon Interval on handoff 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trength at the point of hand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Expecte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2-10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306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414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914400" y="1981080"/>
            <a:ext cx="4267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1.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6.1ms to 547.10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7816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is this discrepanc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s overhearing Probe Request due to channel overl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Probe Response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on channel 1 sends Probe Response for Probe Requests on channel 2,3 and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 on channel 11 sends Probe Response for Probe Requests on channel 8,9 and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0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EE 802.11 Wireless LAN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2.11 Managemen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 Proced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al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mary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38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2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7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5409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2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0.306ms to 553.69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5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4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9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5.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18.303ms to 340.49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9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26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9.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6.1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58.564ms to 280.83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93396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ect of Beacon Interval on handoff La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143000" y="1981080"/>
            <a:ext cx="6769080" cy="4343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: APs have same SSID and are on different chann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548640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6.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2.6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2578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LAN Station (S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Points (A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 Service Set (B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ion System (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ed Service Set (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724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l strength at the point of hando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523880" y="1828800"/>
            <a:ext cx="595008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5409720"/>
            <a:ext cx="77724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verage signal strength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79.5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SS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2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-81.926dBm to -77.074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56272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762120" y="21337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e delay accounts for more than 99% of overall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ificant variation in handoff latency with change in APs SSID and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est handoff latency when APs have same SSID and are on same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ing the signal strength threshold does not effect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acon interval has no effect on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off latencies we measured far exceed the guidelines for jitter in voice over IP applications where the overall latency is recommended not to exceed 50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2428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ways to configure 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-ho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very node can talk to each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ixed APs with which mobile nodes can commun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Ps are connected to 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32288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nel Allo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3.5 MHz from 2.4000 GHz to 2.4835 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 channels, each channel being 22 MHz in width, and each channel centered at 5 MHz interv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1600200" y="4038480"/>
            <a:ext cx="6629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02.11 Management Fr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a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bile node moves from coverage area of one AP to that of another 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s During Hand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tion and scanning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 and passive scanning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re-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ctive Scanning Mode procedur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ransmi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quest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rame which contains the broadcast address as the destination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tar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time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isten for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no respons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can next channel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one or more responses ar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top accepting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s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t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axChannelTime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nd process all received response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ve to next channel and repeat above step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messages exchanged between the mobile node and the participating A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b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uthenti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44600" y="2017800"/>
            <a:ext cx="348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03:25:16Z</dcterms:created>
  <dc:creator>Anshul Jain</dc:creator>
  <dc:description/>
  <dc:language>en-US</dc:language>
  <cp:lastModifiedBy>Anshul Jain</cp:lastModifiedBy>
  <dcterms:modified xsi:type="dcterms:W3CDTF">2003-11-24T01:09:08Z</dcterms:modified>
  <cp:revision>359</cp:revision>
  <dc:subject/>
  <dc:title>Handoff Delay for 802.11b </dc:title>
</cp:coreProperties>
</file>